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DB4A-139D-4B19-97E1-070ED45D8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DF6E-EFCF-4DA2-9D22-5D3CE71F0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6E30-23BA-441E-A017-389A31254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7FE3-E1E3-4EB8-9414-E2BA2ECD5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BD61-2328-4EA8-8B1C-CC8375ECD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0643-FB20-41E9-92BA-B4C354C97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234E-2ED1-462A-91F1-AE5B81AF7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F8FA-C273-440B-8151-E8DFED71E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E647-A3D6-447B-BD61-F8998E944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C58C-5A96-4114-BAA9-42DFB8946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A1CE-2E9D-4620-9D1A-BAA90C69D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FF10-3FD9-4C7E-A141-B9BCDDEEF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F498-05EB-45D4-9FBC-1E45C0ED8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351D-54E7-4463-A663-F3E749CEF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39D8-2B55-4B2F-89A0-B8CC1E04B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5088-C431-4CC9-BAB6-441014F70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B693-48A6-470B-AF24-5BE3B9B2C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2540-431C-4D56-AC17-D75D14C79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D25D-E4A6-4C2C-A752-36EC94C88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5E5D-EB81-4021-B413-70E604CA8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6AF5-9E1D-4005-9A9D-21B1B222C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7D75-0BBF-4237-948C-74087751F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A23-788A-42B8-B1D1-087858F8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011-304C-4ADE-9C44-150F1A01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6EE-9930-4B65-97F6-C8301665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E38-BC20-4038-BE73-8238D944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7656-2DB4-4975-B330-66B11C66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64A-78E9-4BFA-8D5D-7671EF81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0F20-00E3-4538-BC27-F6552C47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A6C-753B-4E5D-871D-D013F952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4CD-C61A-40E9-ACD6-6E21503F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B6F-5524-49B3-9C74-C125679F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D19-7211-41C9-AD07-DC6D7E34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ED8-DCE7-4193-B5F6-C7920069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D7F6-56E8-4F34-9AB2-F38C58E0A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gic and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lip 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Solve Australia Pty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6324480" y="533520"/>
          <a:ext cx="2005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33520"/>
                    <a:ext cx="200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evel scale of likeli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: known to commonly occur; not unexpected in the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ikel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uncommon, rare, but sufficiently frequent to have been witnessed by self or a known per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likel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: very rare; have heard of it happening; may possibly have been witnessed by self or a known per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ery unlik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517840" y="129528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55520" y="3353760"/>
            <a:ext cx="546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905480" y="175248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     Moderate   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762120" y="2514600"/>
            <a:ext cx="1218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1828800" y="2286000"/>
            <a:ext cx="358128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2971800" y="2286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4191120" y="2286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1828800" y="34290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1828800" y="47242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2059200" y="2631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335484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457380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3354480" y="36576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5"/>
          <p:cNvSpPr/>
          <p:nvPr/>
        </p:nvSpPr>
        <p:spPr>
          <a:xfrm>
            <a:off x="4573800" y="3675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4422240" y="497052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5896080" y="1908000"/>
            <a:ext cx="2805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w r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5943600" y="2666880"/>
            <a:ext cx="2995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OTHER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5867280" y="3733920"/>
            <a:ext cx="34290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very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ther D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DO IT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WITH GREAT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0"/>
          <p:cNvSpPr/>
          <p:nvPr/>
        </p:nvSpPr>
        <p:spPr>
          <a:xfrm>
            <a:off x="5938920" y="5043600"/>
            <a:ext cx="279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n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1"/>
          <p:cNvSpPr/>
          <p:nvPr/>
        </p:nvSpPr>
        <p:spPr>
          <a:xfrm>
            <a:off x="5791320" y="1828800"/>
            <a:ext cx="3200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2"/>
          <p:cNvSpPr/>
          <p:nvPr/>
        </p:nvSpPr>
        <p:spPr>
          <a:xfrm>
            <a:off x="6860520" y="129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3"/>
          <p:cNvSpPr/>
          <p:nvPr/>
        </p:nvSpPr>
        <p:spPr>
          <a:xfrm>
            <a:off x="2059200" y="5105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2059200" y="3809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3278160" y="5105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o stud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o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law (c.f. industr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maintain variety of chemicals and equi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consideration of risks and control meas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of records for legal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 between teachers and laboratory technic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ful for new/inexperienced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s cowboys/spur of the mo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practic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66520" y="21333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er-based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(almo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-ba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consum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wieldy form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many prompts - mostly empty spac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few prompts - requires knowledge &amp; ski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search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icult to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rap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pts sensitive to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s paper con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review and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moni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to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d to work in school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.g. &gt;850 schools in AU+NZ+C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-based risk assessment to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ised to the school sit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electronic templates (AU/ISO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database information on risk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(chemical, equipment, biological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equipment order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lab schedu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haring of experiment templates for custom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sections for teacher and laboratory technici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low, go to end of form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medium or more, record control measur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high or extreme, third reviewer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-checking by teacher/labtech/re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ing and ordering system to sav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expensive ($160+GST per campus per ye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, tablet or phon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stant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(virtuall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MSDS/S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ience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Health &amp; Safety Act 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a duty . . . to eliminate/minimise risks to health and safety as far as is reasonably practic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taking into account and weighing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ll relevant matt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cluding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the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likeliho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hazard or the risk concerned occurring;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the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degree of ha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might result from the hazard or the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rt 2, Sections 17 and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fer laborator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leg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ppy lab techs and teach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s safety training requirement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ew Australian Curriculum for Scien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International Baccalaure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extended investigations (student-initiated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mised for student us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students must agree to follow rules and instruction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on-line help screens and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to have all facilities of RiskAss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of 30 simultaneous users no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laptop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iPads and other table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smart phones (iPhones, Android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sts an additional $160 + GST per school per y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763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2057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886200" y="36576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209680" y="4724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:   Establish the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:      Monitor an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:   Consult and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819520" y="380880"/>
            <a:ext cx="3276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3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imila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, preferably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s of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the severity of a ris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ISO 31000:2009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 89-201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 guideli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908360" y="13716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31840" y="2667960"/>
            <a:ext cx="546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905840" y="175248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    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762120" y="2514600"/>
            <a:ext cx="121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828800" y="22860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297180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19112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828800" y="3429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1828800" y="4724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335484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3202920" y="365760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5896080" y="19080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5943600" y="2666880"/>
            <a:ext cx="2995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HE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5938920" y="3809880"/>
            <a:ext cx="279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n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5791320" y="1828800"/>
            <a:ext cx="32004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860520" y="129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9"/>
          <p:cNvSpPr/>
          <p:nvPr/>
        </p:nvSpPr>
        <p:spPr>
          <a:xfrm>
            <a:off x="2059200" y="3809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0"/>
          <p:cNvSpPr/>
          <p:nvPr/>
        </p:nvSpPr>
        <p:spPr>
          <a:xfrm>
            <a:off x="2211480" y="25146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y of options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1295280" y="60199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H="1">
            <a:off x="129528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57200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52280" y="2438280"/>
            <a:ext cx="1905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7391520" y="2666880"/>
            <a:ext cx="1600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057400" y="380880"/>
            <a:ext cx="190512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ten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ing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38480" y="838080"/>
            <a:ext cx="2743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operat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urer            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                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038480" y="2286000"/>
            <a:ext cx="2743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038480" y="3352680"/>
            <a:ext cx="27432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038480" y="4495680"/>
            <a:ext cx="2743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038480" y="5562720"/>
            <a:ext cx="2743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3886200" y="609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152280" y="2362320"/>
            <a:ext cx="152424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7391520" y="23623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16765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1905120" y="609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1905120" y="609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8"/>
          <p:cNvSpPr/>
          <p:nvPr/>
        </p:nvSpPr>
        <p:spPr>
          <a:xfrm>
            <a:off x="1905120" y="990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19051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0"/>
          <p:cNvSpPr/>
          <p:nvPr/>
        </p:nvSpPr>
        <p:spPr>
          <a:xfrm>
            <a:off x="19051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>
            <a:off x="1905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190512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6934320" y="609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4"/>
          <p:cNvSpPr/>
          <p:nvPr/>
        </p:nvSpPr>
        <p:spPr>
          <a:xfrm>
            <a:off x="5638680" y="990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5"/>
          <p:cNvSpPr/>
          <p:nvPr/>
        </p:nvSpPr>
        <p:spPr>
          <a:xfrm>
            <a:off x="56386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6"/>
          <p:cNvSpPr/>
          <p:nvPr/>
        </p:nvSpPr>
        <p:spPr>
          <a:xfrm>
            <a:off x="5638680" y="3505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>
            <a:off x="5638680" y="4648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5638680" y="5715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2895480" y="5715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37339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1"/>
          <p:cNvSpPr/>
          <p:nvPr/>
        </p:nvSpPr>
        <p:spPr>
          <a:xfrm>
            <a:off x="32004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2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3"/>
          <p:cNvSpPr/>
          <p:nvPr/>
        </p:nvSpPr>
        <p:spPr>
          <a:xfrm>
            <a:off x="3200400" y="990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4"/>
          <p:cNvSpPr/>
          <p:nvPr/>
        </p:nvSpPr>
        <p:spPr>
          <a:xfrm>
            <a:off x="693432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5"/>
          <p:cNvSpPr/>
          <p:nvPr/>
        </p:nvSpPr>
        <p:spPr>
          <a:xfrm>
            <a:off x="6553080" y="1371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6"/>
          <p:cNvSpPr/>
          <p:nvPr/>
        </p:nvSpPr>
        <p:spPr>
          <a:xfrm flipV="1">
            <a:off x="67057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7"/>
          <p:cNvSpPr/>
          <p:nvPr/>
        </p:nvSpPr>
        <p:spPr>
          <a:xfrm>
            <a:off x="647712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8"/>
          <p:cNvSpPr/>
          <p:nvPr/>
        </p:nvSpPr>
        <p:spPr>
          <a:xfrm flipV="1">
            <a:off x="6629400" y="2437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9"/>
          <p:cNvSpPr/>
          <p:nvPr/>
        </p:nvSpPr>
        <p:spPr>
          <a:xfrm>
            <a:off x="647712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0"/>
          <p:cNvSpPr/>
          <p:nvPr/>
        </p:nvSpPr>
        <p:spPr>
          <a:xfrm flipV="1">
            <a:off x="6629400" y="3504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1"/>
          <p:cNvSpPr/>
          <p:nvPr/>
        </p:nvSpPr>
        <p:spPr>
          <a:xfrm>
            <a:off x="6477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2"/>
          <p:cNvSpPr/>
          <p:nvPr/>
        </p:nvSpPr>
        <p:spPr>
          <a:xfrm flipV="1">
            <a:off x="662940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3"/>
          <p:cNvSpPr/>
          <p:nvPr/>
        </p:nvSpPr>
        <p:spPr>
          <a:xfrm>
            <a:off x="647712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4"/>
          <p:cNvSpPr/>
          <p:nvPr/>
        </p:nvSpPr>
        <p:spPr>
          <a:xfrm flipV="1">
            <a:off x="66294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5"/>
          <p:cNvSpPr/>
          <p:nvPr/>
        </p:nvSpPr>
        <p:spPr>
          <a:xfrm>
            <a:off x="502920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6"/>
          <p:cNvSpPr/>
          <p:nvPr/>
        </p:nvSpPr>
        <p:spPr>
          <a:xfrm flipV="1">
            <a:off x="518148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7"/>
          <p:cNvSpPr/>
          <p:nvPr/>
        </p:nvSpPr>
        <p:spPr>
          <a:xfrm flipV="1">
            <a:off x="53341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8"/>
          <p:cNvSpPr/>
          <p:nvPr/>
        </p:nvSpPr>
        <p:spPr>
          <a:xfrm>
            <a:off x="533412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9"/>
          <p:cNvSpPr/>
          <p:nvPr/>
        </p:nvSpPr>
        <p:spPr>
          <a:xfrm>
            <a:off x="4648320" y="4191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1"/>
          <p:cNvSpPr/>
          <p:nvPr/>
        </p:nvSpPr>
        <p:spPr>
          <a:xfrm>
            <a:off x="2057400" y="76212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2"/>
          <p:cNvSpPr/>
          <p:nvPr/>
        </p:nvSpPr>
        <p:spPr>
          <a:xfrm>
            <a:off x="2057400" y="220968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3"/>
          <p:cNvSpPr/>
          <p:nvPr/>
        </p:nvSpPr>
        <p:spPr>
          <a:xfrm>
            <a:off x="2057400" y="327672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4"/>
          <p:cNvSpPr/>
          <p:nvPr/>
        </p:nvSpPr>
        <p:spPr>
          <a:xfrm>
            <a:off x="2057400" y="441972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5"/>
          <p:cNvSpPr/>
          <p:nvPr/>
        </p:nvSpPr>
        <p:spPr>
          <a:xfrm>
            <a:off x="2057400" y="548640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6"/>
          <p:cNvSpPr/>
          <p:nvPr/>
        </p:nvSpPr>
        <p:spPr>
          <a:xfrm>
            <a:off x="1828800" y="380880"/>
            <a:ext cx="4952880" cy="5867640"/>
          </a:xfrm>
          <a:prstGeom prst="rect">
            <a:avLst/>
          </a:prstGeom>
          <a:noFill/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7"/>
          <p:cNvSpPr/>
          <p:nvPr/>
        </p:nvSpPr>
        <p:spPr>
          <a:xfrm>
            <a:off x="7543800" y="5486400"/>
            <a:ext cx="1447920" cy="53352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8"/>
          <p:cNvSpPr/>
          <p:nvPr/>
        </p:nvSpPr>
        <p:spPr>
          <a:xfrm>
            <a:off x="7543800" y="6172200"/>
            <a:ext cx="1447920" cy="533520"/>
          </a:xfrm>
          <a:prstGeom prst="rect">
            <a:avLst/>
          </a:prstGeom>
          <a:noFill/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9"/>
          <p:cNvSpPr/>
          <p:nvPr/>
        </p:nvSpPr>
        <p:spPr>
          <a:xfrm>
            <a:off x="7544160" y="548640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1"/>
          <p:cNvSpPr/>
          <p:nvPr/>
        </p:nvSpPr>
        <p:spPr>
          <a:xfrm>
            <a:off x="7544160" y="617220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2"/>
          <p:cNvSpPr/>
          <p:nvPr/>
        </p:nvSpPr>
        <p:spPr>
          <a:xfrm>
            <a:off x="7925760" y="5105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evel scale of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: first aid treatment at the scho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treatment by a do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e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: immediate hospitaliz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v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10-11-30T03:29:40Z</cp:lastPrinted>
  <dcterms:modified xsi:type="dcterms:W3CDTF">2013-09-27T00:20:06Z</dcterms:modified>
  <cp:revision>128</cp:revision>
  <dc:subject/>
  <dc:title>Risk assessment and control of risks</dc:title>
</cp:coreProperties>
</file>