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95E-F828-46F4-B4D7-D7EA9C91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996-D673-4219-ADB5-EA6DC78F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B91-BE37-47E7-AE8F-AB64F30A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A8C-A954-49B2-916C-7DA6AE63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4C0-04B8-41F9-A0CE-8D0F3219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1BE-020D-4058-9851-7F0196EC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8DA-C817-4FE5-9494-121EEC8F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92F-F23B-4442-8E79-052B07DA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977-F204-4028-BDB5-245D823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DDE-748A-4611-9908-FC66C6C0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FB8-7221-4C1E-B343-862B85D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099-3D90-4665-944A-874A3176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7248-4CA3-4A26-BC4C-8EFF89EF8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cis.safeworkaustralia.gov.au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cha.europa.eu/information-on-chemicals/cl-inventory-databas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: easy GHS labelling of chemi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burning_hair_medium.jpg"/>
          <p:cNvPicPr/>
          <p:nvPr/>
        </p:nvPicPr>
        <p:blipFill>
          <a:blip r:embed="rId1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437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ata available only for common industrial chemicals (e.g. Na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a solution is regarded as mixture, with water as an inert dil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rules for mixtures a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riskassess.com.au/docs/GHSdataSolutions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ummary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Ass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re chemical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A data “Harmonised classification”,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most common classification (more conservative, if tw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A data “Specific concentration limits”,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application of GHS rules for mixtures to ECHA data for pure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 data updated following ECHA upda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 data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other sourc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ure substances and aque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mon indicators/dyes in aqueous alcohol and for common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uses information from RiskAsssess database to generate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alculates solution labels based on the concentration you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colour spots and “SDS avail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659120" cy="33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076720" y="1736640"/>
            <a:ext cx="1943280" cy="118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7308720" y="1736640"/>
            <a:ext cx="1371600" cy="74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5508720" y="3465360"/>
            <a:ext cx="3265560" cy="1297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1116000" y="5229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50,000 label sheets dow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600 secondary schools since 25/9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mercial products, using data from S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ixtures of chemicals not in the RiskAssess database (calculate yoursel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make any GHS label, by selecting signal word, pictograms and hazard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checking of signal word and pict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colour spots and “SDS avail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creen Shot 2017-08-23 at 4.54.44 PM.png"/>
          <p:cNvPicPr/>
          <p:nvPr/>
        </p:nvPicPr>
        <p:blipFill>
          <a:blip r:embed="rId1"/>
          <a:stretch/>
        </p:blipFill>
        <p:spPr>
          <a:xfrm>
            <a:off x="5580000" y="3559320"/>
            <a:ext cx="294336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Screen Shot 2017-08-23 at 4.57.15 PM.png"/>
          <p:cNvPicPr/>
          <p:nvPr/>
        </p:nvPicPr>
        <p:blipFill>
          <a:blip r:embed="rId2"/>
          <a:stretch/>
        </p:blipFill>
        <p:spPr>
          <a:xfrm>
            <a:off x="5219640" y="1687680"/>
            <a:ext cx="1800360" cy="108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Screen Shot 2017-08-23 at 4.59.46 PM.png"/>
          <p:cNvPicPr/>
          <p:nvPr/>
        </p:nvPicPr>
        <p:blipFill>
          <a:blip r:embed="rId3"/>
          <a:stretch/>
        </p:blipFill>
        <p:spPr>
          <a:xfrm>
            <a:off x="7308720" y="1687680"/>
            <a:ext cx="1366920" cy="74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Screen Shot 2017-08-24 at 11.17.50 AM.png"/>
          <p:cNvPicPr/>
          <p:nvPr/>
        </p:nvPicPr>
        <p:blipFill>
          <a:blip r:embed="rId4"/>
          <a:stretch/>
        </p:blipFill>
        <p:spPr>
          <a:xfrm>
            <a:off x="395280" y="1341360"/>
            <a:ext cx="46814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labelling system for chemicals, solutions and mi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overhauled and updated user and training c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afety in Schools" book, available as an 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s to Learning Resources for routine procedures, dissection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heduling of experiments with signed risk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sable year group list for eac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information, stocktaking and usage 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$250 + GST per campus per y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ly agreed system (UN, esp. Eur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hysical hazards, e.g. flamm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ealth hazards, e.g. carcinogeni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vironmental hazards, e.g. acute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 new hazard pictogr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ignal wo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zard state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ecautionary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 Data Sheets (SD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pdated &amp; more extens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le Book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61pp, 3.2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fficial text, Australia using Rev. 3 (2009), but  Rev. 7 (2017) lat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ion Gu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9pp, 0.9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asy-to-read summary and learning tool, from UNITAR websi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unec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ur Work/Transport/Dangerous Go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official text and corrigend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(Rev. 7) 2017 [one document] or GHS (Rev. 3) 2009 [in piec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obtain the latest version directly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bfc5"/>
                </a:solidFill>
                <a:latin typeface="Arial"/>
              </a:rPr>
              <a:t>www.unece.org/trans/danger/publi/ghs/ghs_rev07/07files_e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for original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identifier (e.g.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shipping name &amp; UN Number (if Dangerous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, address and phone number of Australian importer or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 and proportions, if a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word e.g. Danger or 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utionary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information, e.g. first aid &amp; emergenc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iry date of the chemical, if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explos"/>
          <p:cNvPicPr/>
          <p:nvPr/>
        </p:nvPicPr>
        <p:blipFill>
          <a:blip r:embed="rId1"/>
          <a:stretch/>
        </p:blipFill>
        <p:spPr>
          <a:xfrm>
            <a:off x="533520" y="0"/>
            <a:ext cx="220968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lamme"/>
          <p:cNvPicPr/>
          <p:nvPr/>
        </p:nvPicPr>
        <p:blipFill>
          <a:blip r:embed="rId2"/>
          <a:stretch/>
        </p:blipFill>
        <p:spPr>
          <a:xfrm>
            <a:off x="3276720" y="0"/>
            <a:ext cx="220824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rondflam"/>
          <p:cNvPicPr/>
          <p:nvPr/>
        </p:nvPicPr>
        <p:blipFill>
          <a:blip r:embed="rId3"/>
          <a:stretch/>
        </p:blipFill>
        <p:spPr>
          <a:xfrm>
            <a:off x="6019920" y="0"/>
            <a:ext cx="2162160" cy="216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bottle"/>
          <p:cNvPicPr/>
          <p:nvPr/>
        </p:nvPicPr>
        <p:blipFill>
          <a:blip r:embed="rId4"/>
          <a:stretch/>
        </p:blipFill>
        <p:spPr>
          <a:xfrm>
            <a:off x="457200" y="22417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acid_red"/>
          <p:cNvPicPr/>
          <p:nvPr/>
        </p:nvPicPr>
        <p:blipFill>
          <a:blip r:embed="rId5"/>
          <a:stretch/>
        </p:blipFill>
        <p:spPr>
          <a:xfrm>
            <a:off x="32004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skull"/>
          <p:cNvPicPr/>
          <p:nvPr/>
        </p:nvPicPr>
        <p:blipFill>
          <a:blip r:embed="rId6"/>
          <a:stretch/>
        </p:blipFill>
        <p:spPr>
          <a:xfrm>
            <a:off x="5943600" y="2286000"/>
            <a:ext cx="235908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exclam"/>
          <p:cNvPicPr/>
          <p:nvPr/>
        </p:nvPicPr>
        <p:blipFill>
          <a:blip r:embed="rId7"/>
          <a:stretch/>
        </p:blipFill>
        <p:spPr>
          <a:xfrm>
            <a:off x="533520" y="4800600"/>
            <a:ext cx="2057400" cy="2054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ilhouete"/>
          <p:cNvPicPr/>
          <p:nvPr/>
        </p:nvPicPr>
        <p:blipFill>
          <a:blip r:embed="rId8"/>
          <a:stretch/>
        </p:blipFill>
        <p:spPr>
          <a:xfrm>
            <a:off x="33526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Aquatic-pollut-red"/>
          <p:cNvPicPr/>
          <p:nvPr/>
        </p:nvPicPr>
        <p:blipFill>
          <a:blip r:embed="rId9"/>
          <a:stretch/>
        </p:blipFill>
        <p:spPr>
          <a:xfrm>
            <a:off x="6095880" y="4726080"/>
            <a:ext cx="2133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945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468360" y="404640"/>
            <a:ext cx="8136000" cy="60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fo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nted or transferred hazardous chemi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, at a minimum, be written in English and include the follow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duct identifier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zard pictogram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zard statement consistent with the correct classification of the chemi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minimum text and pictogram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ume                     Text                     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500 mL                  2.5 mm                       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mL to 5 L              3 mm                        2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afe Work Australia “Labelling of Workplace Hazardous Chemicals Code of Practice” March 2015, adopted in every jurisdiction except WA; VIC indir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Assess follows the Code of Practice for label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Chemical Inform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cis.safeworkaustralia.gov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“Search Hazardous Chemicals”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name (sometimes use weird nam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Registry Number (more rel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cen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077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hemicals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ha.europa.eu/information-on-chemicals/cl-inventory-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and Labelling (CL)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by chemical companies in Europ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lassifications according to GH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sed 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tes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msy to use, due to need to translate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08-09-18T23:01:23Z</cp:lastPrinted>
  <dcterms:modified xsi:type="dcterms:W3CDTF">2017-09-01T00:48:46Z</dcterms:modified>
  <cp:revision>175</cp:revision>
  <dc:subject/>
  <dc:title>Risk assessment and control of risks</dc:title>
</cp:coreProperties>
</file>