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C25-732A-4BAD-AC8C-B53FDAFF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E0F3-3F36-4D9F-BC0E-A2D062FC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FE09-222B-4B54-80C6-9EDA443C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E3B1-9004-4EF5-8772-4EC9BCF1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66C-77B3-46A3-9C41-22C67E4C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BC2-2FEA-404A-B0E5-780D491B5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48A-1003-412F-AAEB-624A07FCB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D61-52D5-4805-85B5-F18F3B30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9200-63D8-4411-8141-6DEB6ED0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ECC9-D6F5-4259-AB82-DC5357EB5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EE7F-7EBF-4A5D-AED9-4808D6E8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FDEA-C2FC-46D0-AB5A-C9B54911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2931-6BA5-414C-8D1D-345094A2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9261-9EB6-4B52-8608-9661C14D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0DA1-4C1C-40D6-84D3-245FD502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F75D-8138-4AA7-9CA6-A15F5911D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6690-2010-4C5C-BC8B-64E96B4D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DDE-98E0-45C8-9E30-52F91B46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FFD-E1B7-4C3E-BF56-4DB29D3FF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9BA-CE72-4DC7-8A1E-DB47A2E4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E4DF-EA48-418F-9833-A56EF41E2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1F4-B387-42DB-8BFE-B8798D04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483-9BDD-487F-85C8-919BA7D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508-BF7E-4A1C-8CB1-4DB6ABD7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B1E-B8FF-46BC-816C-832EB5C9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336-1907-4461-9703-7393FFAB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C7F-54FF-4E35-BE70-3073D61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CE0-D098-49E4-9393-3555A08E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8F6-1E57-4E72-A194-07D0E362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474-D986-46C9-BC24-0FFDC240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E9B-E8F8-4D16-A83E-132317F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C40-7F60-4BFC-BDCA-76C17FBD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A73-69F7-4E6B-99B3-641E209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B966-F768-44FA-932D-2AD6084D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s made eas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olve Australia Pty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teachers and sci tech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cupational Health and Safety Code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686160" y="1752480"/>
            <a:ext cx="98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plo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ssess a work site and identify existing and potential hazards before work begins at the work sit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prepare a report of the results of a hazard assessment and the methods used to control or eliminate the hazards identified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ensure that the date on which the hazard assessment is prepared or revised is recorded on i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ensure that the hazard assessment is repeated at reasonably practicable intervals to prevent the development of unsafe and unhealthy wor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 7(1)-7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0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5938920" y="380988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2280" y="2438280"/>
            <a:ext cx="1905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391520" y="266688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057400" y="380880"/>
            <a:ext cx="19051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038480" y="838080"/>
            <a:ext cx="2743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operat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er            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                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038480" y="228600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038480" y="3352680"/>
            <a:ext cx="2743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038480" y="449568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038480" y="556272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3886200" y="609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52280" y="2362320"/>
            <a:ext cx="15242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7391520" y="23623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16765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9051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1905120" y="60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1905120" y="990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19051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1905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19051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69343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5638680" y="99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56386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5638680" y="3505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>
            <a:off x="5638680" y="4648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5638680" y="571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28954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0"/>
          <p:cNvSpPr/>
          <p:nvPr/>
        </p:nvSpPr>
        <p:spPr>
          <a:xfrm>
            <a:off x="37339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>
            <a:off x="3200400" y="990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6934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6553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 flipV="1">
            <a:off x="67057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64771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8"/>
          <p:cNvSpPr/>
          <p:nvPr/>
        </p:nvSpPr>
        <p:spPr>
          <a:xfrm flipV="1">
            <a:off x="662940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64771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0"/>
          <p:cNvSpPr/>
          <p:nvPr/>
        </p:nvSpPr>
        <p:spPr>
          <a:xfrm flipV="1">
            <a:off x="6629400" y="3504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1"/>
          <p:cNvSpPr/>
          <p:nvPr/>
        </p:nvSpPr>
        <p:spPr>
          <a:xfrm>
            <a:off x="6477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2"/>
          <p:cNvSpPr/>
          <p:nvPr/>
        </p:nvSpPr>
        <p:spPr>
          <a:xfrm flipV="1">
            <a:off x="6629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3"/>
          <p:cNvSpPr/>
          <p:nvPr/>
        </p:nvSpPr>
        <p:spPr>
          <a:xfrm>
            <a:off x="64771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4"/>
          <p:cNvSpPr/>
          <p:nvPr/>
        </p:nvSpPr>
        <p:spPr>
          <a:xfrm flipV="1">
            <a:off x="66294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5"/>
          <p:cNvSpPr/>
          <p:nvPr/>
        </p:nvSpPr>
        <p:spPr>
          <a:xfrm>
            <a:off x="502920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6"/>
          <p:cNvSpPr/>
          <p:nvPr/>
        </p:nvSpPr>
        <p:spPr>
          <a:xfrm flipV="1">
            <a:off x="518148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7"/>
          <p:cNvSpPr/>
          <p:nvPr/>
        </p:nvSpPr>
        <p:spPr>
          <a:xfrm flipV="1">
            <a:off x="53341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8"/>
          <p:cNvSpPr/>
          <p:nvPr/>
        </p:nvSpPr>
        <p:spPr>
          <a:xfrm>
            <a:off x="53341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9"/>
          <p:cNvSpPr/>
          <p:nvPr/>
        </p:nvSpPr>
        <p:spPr>
          <a:xfrm>
            <a:off x="464832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1"/>
          <p:cNvSpPr/>
          <p:nvPr/>
        </p:nvSpPr>
        <p:spPr>
          <a:xfrm>
            <a:off x="2057400" y="7621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2057400" y="220968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3"/>
          <p:cNvSpPr/>
          <p:nvPr/>
        </p:nvSpPr>
        <p:spPr>
          <a:xfrm>
            <a:off x="2057400" y="3276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4"/>
          <p:cNvSpPr/>
          <p:nvPr/>
        </p:nvSpPr>
        <p:spPr>
          <a:xfrm>
            <a:off x="2057400" y="4419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5"/>
          <p:cNvSpPr/>
          <p:nvPr/>
        </p:nvSpPr>
        <p:spPr>
          <a:xfrm>
            <a:off x="2057400" y="548640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6"/>
          <p:cNvSpPr/>
          <p:nvPr/>
        </p:nvSpPr>
        <p:spPr>
          <a:xfrm>
            <a:off x="1828800" y="380880"/>
            <a:ext cx="4952880" cy="5867640"/>
          </a:xfrm>
          <a:prstGeom prst="rect">
            <a:avLst/>
          </a:prstGeom>
          <a:noFill/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7"/>
          <p:cNvSpPr/>
          <p:nvPr/>
        </p:nvSpPr>
        <p:spPr>
          <a:xfrm>
            <a:off x="7543800" y="5486400"/>
            <a:ext cx="1447920" cy="53352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8"/>
          <p:cNvSpPr/>
          <p:nvPr/>
        </p:nvSpPr>
        <p:spPr>
          <a:xfrm>
            <a:off x="7543800" y="6172200"/>
            <a:ext cx="1447920" cy="533520"/>
          </a:xfrm>
          <a:prstGeom prst="rect">
            <a:avLst/>
          </a:prstGeom>
          <a:noFill/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9"/>
          <p:cNvSpPr/>
          <p:nvPr/>
        </p:nvSpPr>
        <p:spPr>
          <a:xfrm>
            <a:off x="7544160" y="54864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1"/>
          <p:cNvSpPr/>
          <p:nvPr/>
        </p:nvSpPr>
        <p:spPr>
          <a:xfrm>
            <a:off x="7544160" y="61722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2"/>
          <p:cNvSpPr/>
          <p:nvPr/>
        </p:nvSpPr>
        <p:spPr>
          <a:xfrm>
            <a:off x="7925760" y="5105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: first aid treatment at the sch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treatment by a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immediate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v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known to commonly occur; not unexpected in the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uncommon, rare, but sufficiently frequent to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very rare; have heard of it happening; may possibly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unlik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517840" y="12952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55520" y="33537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905480" y="175248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Moderate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762120" y="2514600"/>
            <a:ext cx="121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828800" y="2286000"/>
            <a:ext cx="358128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97180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419112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182880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4724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2059200" y="2631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457380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3354480" y="3657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4573800" y="3675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4422240" y="497052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5896080" y="1908000"/>
            <a:ext cx="2805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w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OTHER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5867280" y="3733920"/>
            <a:ext cx="34290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very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her 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DO IT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WITH GREA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5938920" y="504360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5791320" y="1828800"/>
            <a:ext cx="3200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205920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4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327816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ures 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 within school-board a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science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practic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6520" y="21333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(alm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many prompts - mostly empty spac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few prompts - requires knowledge &amp; ski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 650 schools in AU&amp;N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lectronic templates (CA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science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sci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160 per school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 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subscriptions, if des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4-08-26T08:28:09Z</dcterms:modified>
  <cp:revision>97</cp:revision>
  <dc:subject/>
  <dc:title>Risk assessment and control of risks</dc:title>
</cp:coreProperties>
</file>