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D31A-5D20-40C7-99C5-B778920CA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2610-7D24-4323-A6B1-BFC425AF6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599C-8D8B-4291-9821-5AA3DCFEC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1D5DD-DCD6-4DFE-AB92-73D38575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3F0A-5D36-4536-9F13-BCF5B63AD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1720-260C-4970-A24C-739545D8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D1B-21AA-4121-93CB-71E80BCBD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FB34-DA98-415F-BBDB-5E9509D73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677C-483A-48E6-AFB6-36B18001E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6FAA-39F4-4DC4-A86D-12B75571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AF5B-1836-4950-AD53-FA925F346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925B-12D5-4A2B-AFA0-E3FF3BEE1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A91-ACD7-4A90-A8FD-B17C9C54F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4BE4-0FFA-4548-9F46-3BAFCBBDA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F84E-CA8D-4C0B-AA2C-21012BE1A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D384-7684-4231-AE16-BE6834F74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96ABC-1FF6-47B8-9CD8-D4F17CEA9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0D20-835A-4C08-A18D-073562FED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C937-F916-4B84-A969-EA41802B7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04FA-E536-4355-B76E-5878E6FDF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475C-7BEA-43F4-8273-090BA76D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061-EBC0-4823-9C35-8CF8EA793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ADD6-6915-49F8-A2F4-768404475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F9FD-B8C1-4B7D-B9F4-B65D9239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E6D0-EA10-4FF2-8ADE-0E72480C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E79F-FB78-4FAD-8B5C-0214261F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9BA6-3ECB-4DCA-AB06-7FF44BEE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CB3-8532-473A-B7BD-EFEE136AD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F1C-E3CF-4ECA-997D-C163B478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3A7E-4D2D-4C0C-897D-C94B5CC6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0749-43A9-4F3E-B664-20847358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D345-5BB3-4DF8-B2B0-C8AA98C2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2060640"/>
            <a:ext cx="9036000" cy="25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isk assessment of science experiments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• the Law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• the Logic, and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• the Australian Curriculum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Solve Austr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3040" y="2060640"/>
            <a:ext cx="807696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, laboratory technicians and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mit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rning experiences for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987640" y="764640"/>
            <a:ext cx="3200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68920" y="-301680"/>
            <a:ext cx="27432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311120" y="327960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Sta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930240" y="2670120"/>
            <a:ext cx="2793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Asses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892760" y="3279600"/>
            <a:ext cx="2666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68560" y="2406600"/>
            <a:ext cx="46054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1"/>
          <p:cNvSpPr/>
          <p:nvPr/>
        </p:nvSpPr>
        <p:spPr>
          <a:xfrm flipH="1">
            <a:off x="2606760" y="1450800"/>
            <a:ext cx="18288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4511520" y="1450800"/>
            <a:ext cx="1447920" cy="91440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55640" y="4437000"/>
            <a:ext cx="3048120" cy="9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ed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&gt;900 sch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4816440" y="4221000"/>
            <a:ext cx="3276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arted 2013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mee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st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&gt;100 schoo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" y="333360"/>
            <a:ext cx="9107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fety requirements in th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stralian Curriculum for Sci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4-1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 take increasingly active role in consideration of risk and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9 &amp;10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ontent description)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potential hazards of chemicals and biological materials . . .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lab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 11 &amp; 12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ing risk assessments (Inquiry ski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8120" y="259056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819520" y="1905120"/>
            <a:ext cx="1218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1143000" y="4419720"/>
            <a:ext cx="7391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y to meet the safety requiremen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Australian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2960" y="1399680"/>
            <a:ext cx="80769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ed to the schoo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stomised for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lectronic templates (AU/ISO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atabase information on ris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quipment order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lab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for teachers, especially RA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sections for student, teacher and laboratory technic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low, go to end of for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medium or more, record control meas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high or extreme, third reviewer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expensive ($160 + GST per campus per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 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(virtuall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MSDS/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131920" y="1484280"/>
            <a:ext cx="60199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ads (and other tabl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phones (iPhones, Android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531720" y="4292640"/>
            <a:ext cx="807732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gital technologies* are emphasised 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ience Inquiry Skills, Years 7-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systems that handle digital data including hardware and software for specific purpo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561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/curriculum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eng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s newest digital technolog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e skills training for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teachers, lab techs and student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76360" y="304920"/>
            <a:ext cx="281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isk matri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908360" y="13716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231840" y="2667960"/>
            <a:ext cx="546120" cy="14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1905840" y="1752480"/>
            <a:ext cx="204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or      Sev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62120" y="2514600"/>
            <a:ext cx="1218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1828800" y="22860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7180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4191120" y="22860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1828800" y="34290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828800" y="47242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3354840" y="2455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3202920" y="365760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5896080" y="190800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3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5943600" y="2666880"/>
            <a:ext cx="299556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doubt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THE 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5938920" y="3809880"/>
            <a:ext cx="2798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unacceptabl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DO I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7"/>
          <p:cNvSpPr/>
          <p:nvPr/>
        </p:nvSpPr>
        <p:spPr>
          <a:xfrm>
            <a:off x="5791320" y="1828800"/>
            <a:ext cx="3200400" cy="32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6860520" y="12952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9"/>
          <p:cNvSpPr/>
          <p:nvPr/>
        </p:nvSpPr>
        <p:spPr>
          <a:xfrm>
            <a:off x="2059200" y="38098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0"/>
          <p:cNvSpPr/>
          <p:nvPr/>
        </p:nvSpPr>
        <p:spPr>
          <a:xfrm>
            <a:off x="2211480" y="25146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1219320" y="5516640"/>
            <a:ext cx="65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 (c.f. industry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4-03-23T10:06:03Z</cp:lastPrinted>
  <dcterms:modified xsi:type="dcterms:W3CDTF">2014-06-26T02:10:05Z</dcterms:modified>
  <cp:revision>153</cp:revision>
  <dc:subject/>
  <dc:title>Risk assessment and control of risks</dc:title>
</cp:coreProperties>
</file>