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AD7B-0204-483C-9EE3-47B53BA9F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A19C-56D7-4EA1-88DE-820E530D2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6732-5B34-4568-AC51-03A610A71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EF84-0E85-4A18-BBC8-67E825F2C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8234-83DA-40F8-ACD8-1AB45114B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8BF8-7DF0-474B-86E5-C9D3DEF6D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C6EE-0097-4BB7-991F-E9CF4469D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5FA0-71B9-40FF-B27A-73B58EE06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6644-7494-4BE0-B708-ED66C34BB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EA7E-B2C6-445F-83FC-6405DEEFF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AC94-090E-487A-82B5-F9F256BB4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98DC-B81B-4D78-9AE7-B2BE04A89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6A19-5862-4CBE-A78E-D5BC943B6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6EDC-2226-4509-AF84-45C7B6253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2B88-8572-46D9-B133-C6C14D591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5169-5ABA-4C84-BD5B-6ACC96D3C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CBBB-B169-4CD4-B1A2-E6C6E2B95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0731-3190-464E-8D00-FDA0907D6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C52A-843A-4977-81C4-E5E94C183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7994-31D7-49FD-8C97-EDF1AD135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3440-F5E4-4F93-9020-F8C9A115A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02EB-4658-4C7E-BEC4-FC34C7B94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C2F1-F1DA-47F0-B78C-0E2D9BDD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DE4E-2178-49A1-9FA5-5805BC6A2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E8A9-1978-43AA-9034-24525258D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6D1E-5F64-456D-8B4A-CC697681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5B1B-0514-4842-9694-EE2FE998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29A9-6CF3-4EA8-A113-4BC9BBDB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2112-212F-4FBB-A9FA-18E16FAD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3765-232F-44B1-9492-7055BB20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0760-1CB6-4F07-84F4-082C7867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1F2C-5276-482D-9AC6-F0CE2B92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497E-EE6B-4791-BED7-A43158F5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2F4F-5F09-4228-8FE1-8C18B9D36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1280" y="2491920"/>
            <a:ext cx="871236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risk assessments?</a:t>
            </a:r>
            <a:br>
              <a:rPr sz="1200"/>
            </a:br>
            <a:br>
              <a:rPr sz="1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RiskAssess and Student RiskAssess help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58920" y="46530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illip Crisp and Eva Cri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5"/>
          <p:cNvGraphicFramePr/>
          <p:nvPr/>
        </p:nvGraphicFramePr>
        <p:xfrm>
          <a:off x="6324480" y="533520"/>
          <a:ext cx="20052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533520"/>
                    <a:ext cx="2005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87280" y="475920"/>
            <a:ext cx="338292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 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3"/>
          <p:cNvSpPr/>
          <p:nvPr/>
        </p:nvSpPr>
        <p:spPr>
          <a:xfrm>
            <a:off x="4643280" y="1125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5"/>
          <p:cNvSpPr/>
          <p:nvPr/>
        </p:nvSpPr>
        <p:spPr>
          <a:xfrm>
            <a:off x="2771640" y="1268280"/>
            <a:ext cx="38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Straight Arrow Connector 7"/>
          <p:cNvCxnSpPr/>
          <p:nvPr/>
        </p:nvCxnSpPr>
        <p:spPr>
          <a:xfrm>
            <a:off x="2771280" y="1268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0"/>
          <p:cNvCxnSpPr/>
          <p:nvPr/>
        </p:nvCxnSpPr>
        <p:spPr>
          <a:xfrm>
            <a:off x="6659280" y="1268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Rectangle 2"/>
          <p:cNvSpPr/>
          <p:nvPr/>
        </p:nvSpPr>
        <p:spPr>
          <a:xfrm>
            <a:off x="971640" y="1628640"/>
            <a:ext cx="338292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≥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isk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5003640" y="1628640"/>
            <a:ext cx="338328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risk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971640" y="2997360"/>
            <a:ext cx="33829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control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5292720" y="2997360"/>
            <a:ext cx="259236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Straight Arrow Connector 17"/>
          <p:cNvCxnSpPr/>
          <p:nvPr/>
        </p:nvCxnSpPr>
        <p:spPr>
          <a:xfrm>
            <a:off x="2771280" y="242064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1" name="Straight Arrow Connector 19"/>
          <p:cNvCxnSpPr/>
          <p:nvPr/>
        </p:nvCxnSpPr>
        <p:spPr>
          <a:xfrm>
            <a:off x="6659280" y="242064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2" name="Straight Connector 21"/>
          <p:cNvSpPr/>
          <p:nvPr/>
        </p:nvSpPr>
        <p:spPr>
          <a:xfrm>
            <a:off x="2771640" y="3789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22"/>
          <p:cNvSpPr/>
          <p:nvPr/>
        </p:nvSpPr>
        <p:spPr>
          <a:xfrm>
            <a:off x="1332000" y="393372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24"/>
          <p:cNvSpPr/>
          <p:nvPr/>
        </p:nvSpPr>
        <p:spPr>
          <a:xfrm>
            <a:off x="1332000" y="836640"/>
            <a:ext cx="0" cy="30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Straight Arrow Connector 28"/>
          <p:cNvCxnSpPr/>
          <p:nvPr/>
        </p:nvCxnSpPr>
        <p:spPr>
          <a:xfrm>
            <a:off x="1331640" y="836280"/>
            <a:ext cx="16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6" name="Rectangle 2"/>
          <p:cNvSpPr/>
          <p:nvPr/>
        </p:nvSpPr>
        <p:spPr>
          <a:xfrm>
            <a:off x="684360" y="4508640"/>
            <a:ext cx="81356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erent level of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risk level without any control measures besides “routine procedur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dual level of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risk level with control measures in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of risk assess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807696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d frequency of injuries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- to student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- to school sta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d costs for paperwork, litigation and payou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iance with the la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lps maintain variety of chemicals and equi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iance with the Australian Curricul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of 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lised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2057040"/>
            <a:ext cx="8370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er consideration of risks and control measur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ndardis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orage of records for legal purpo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unication between teachers and laboratory technicia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ourages spur-of-the-moment experi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ful for new/inexperienced sta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per-based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56000" y="1980720"/>
            <a:ext cx="496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me consum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wieldy for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n-search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fficult to upd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orage probl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ic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7292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atively rapi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mpts sensitive to contex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s paper consump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y to review and upd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y monit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y stor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monstrated to work in school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iskAssess: 1200 schools AU+NZ+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1,000,000 risk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Ass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600200" y="167616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-based risk assessment too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stomised to the school situ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- electronic templates (AU/ISO)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- database information on risk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(chemical, equipment, biological)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- equipment ordering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- lab schedu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y sharing of experiment templates for customis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parate sections for teacher and laboratory technicia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itial assessment of inherent risk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if low, go to end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if medium or more, record control measure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if high or extreme, third reviewer requi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oss-checking by teacher/labtech/review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heduling and ordering system to save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expensive ($160+GST per campus per yea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17900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 from school/hom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hing to install on computer, tablet or phon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instant updat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limited number of simultaneous users and risk assessment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imal data ent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ments (M)S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ing input from science sta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ple backups of data &amp; backup serv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 and adv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1904760"/>
            <a:ext cx="5638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fer laboratori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tter commun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ets legal requir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d co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roved efficien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ppy teachers and lab tech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 RiskAss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83822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ets safety training requirements of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new Australian Curriculum for Scienc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International Baccalaureat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extended investigations (student-initiated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timised for student us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students must agree to follow rules and instruction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on-line help screens and docu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to have all facilities of RiskAss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ass of 30 simultaneous users no probl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be used on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laptop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iPads and other tablet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smart phones (iPhones, Android, et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sts an additional $160 + GST per campus per y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6551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W (not WA, VIC)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rk Health &amp; Safety 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. . a duty . . . to eliminate/minimise risks to health and safety as far as is reasonably practicab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. . taking into account and weighing up</a:t>
            </a:r>
            <a:br>
              <a:rPr sz="3000"/>
            </a:b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all relevant matter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luding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a) the </a:t>
            </a:r>
            <a:r>
              <a:rPr b="0" lang="en-US" sz="3000" spc="-1" strike="noStrike">
                <a:solidFill>
                  <a:srgbClr val="3366ff"/>
                </a:solidFill>
                <a:latin typeface="Arial"/>
              </a:rPr>
              <a:t>likelihoo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the hazard or the risk concerned occurring; and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) the </a:t>
            </a:r>
            <a:r>
              <a:rPr b="0" lang="en-US" sz="3000" spc="-1" strike="noStrike">
                <a:solidFill>
                  <a:srgbClr val="3366ff"/>
                </a:solidFill>
                <a:latin typeface="Arial"/>
              </a:rPr>
              <a:t>degree of har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t might result from the hazard or the risk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. .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art 2, Sections 17 and 1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916360" y="115560"/>
            <a:ext cx="3200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skAss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497640" y="-951120"/>
            <a:ext cx="27432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272880" y="252576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-108000" y="1916280"/>
            <a:ext cx="2793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Asses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3059280" y="2502000"/>
            <a:ext cx="1919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2556000" y="1628640"/>
            <a:ext cx="3240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RiskAsses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1"/>
          <p:cNvSpPr/>
          <p:nvPr/>
        </p:nvSpPr>
        <p:spPr>
          <a:xfrm flipH="1">
            <a:off x="1403280" y="765000"/>
            <a:ext cx="2881440" cy="12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4427640" y="765000"/>
            <a:ext cx="3240000" cy="1151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108000" y="3141720"/>
            <a:ext cx="25192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rted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m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1100 schoo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3059280" y="3284640"/>
            <a:ext cx="2244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rted 2013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meet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ust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150 schoo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6227640" y="2502000"/>
            <a:ext cx="2376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5867280" y="1628640"/>
            <a:ext cx="324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RiskAsses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6372360" y="3284640"/>
            <a:ext cx="224316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rting 2015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meet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ust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120 schoo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2"/>
          <p:cNvSpPr/>
          <p:nvPr/>
        </p:nvSpPr>
        <p:spPr>
          <a:xfrm>
            <a:off x="4356000" y="765000"/>
            <a:ext cx="0" cy="1151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1403280" y="5445000"/>
            <a:ext cx="320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ary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6156360" y="5445000"/>
            <a:ext cx="2840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traight Connector 4"/>
          <p:cNvSpPr/>
          <p:nvPr/>
        </p:nvSpPr>
        <p:spPr>
          <a:xfrm>
            <a:off x="250920" y="5445000"/>
            <a:ext cx="554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traight Connector 22"/>
          <p:cNvSpPr/>
          <p:nvPr/>
        </p:nvSpPr>
        <p:spPr>
          <a:xfrm>
            <a:off x="6084720" y="5445000"/>
            <a:ext cx="295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9"/>
          <p:cNvSpPr/>
          <p:nvPr/>
        </p:nvSpPr>
        <p:spPr>
          <a:xfrm flipV="1">
            <a:off x="250920" y="5300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27"/>
          <p:cNvSpPr/>
          <p:nvPr/>
        </p:nvSpPr>
        <p:spPr>
          <a:xfrm flipV="1">
            <a:off x="5796000" y="5300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traight Connector 28"/>
          <p:cNvSpPr/>
          <p:nvPr/>
        </p:nvSpPr>
        <p:spPr>
          <a:xfrm flipV="1">
            <a:off x="6084720" y="5300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29"/>
          <p:cNvSpPr/>
          <p:nvPr/>
        </p:nvSpPr>
        <p:spPr>
          <a:xfrm flipV="1">
            <a:off x="9036000" y="5300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4360" y="691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all relevant matter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lu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cilities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haviour of the cla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dents with special nee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dents with allergies, et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NOT book “risk assessment”, tick sheet, et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ff"/>
                </a:solidFill>
                <a:latin typeface="Arial"/>
              </a:rPr>
              <a:t>likeliho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ff"/>
                </a:solidFill>
                <a:latin typeface="Arial"/>
              </a:rPr>
              <a:t>degree of har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ideration requi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er risk assessment using a risk matri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.g. Aust/ISO Standard on Risk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6547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W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stern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. . . a person having control of the workplace . . . must, </a:t>
            </a:r>
            <a:r>
              <a:rPr b="0" lang="en-US" sz="2300" spc="-1" strike="noStrike">
                <a:solidFill>
                  <a:srgbClr val="3366ff"/>
                </a:solidFill>
                <a:latin typeface="Arial"/>
                <a:ea typeface="Arial"/>
              </a:rPr>
              <a:t>as far as practicabl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(a) </a:t>
            </a:r>
            <a:r>
              <a:rPr b="0" lang="en-US" sz="2300" spc="-1" strike="noStrike">
                <a:solidFill>
                  <a:srgbClr val="ff0000"/>
                </a:solidFill>
                <a:latin typeface="Arial"/>
                <a:ea typeface="Arial"/>
              </a:rPr>
              <a:t>identify each hazard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to which a person at the workplace is likely to be exposed, (b) </a:t>
            </a:r>
            <a:r>
              <a:rPr b="0" lang="en-US" sz="2300" spc="-1" strike="noStrike">
                <a:solidFill>
                  <a:srgbClr val="ff0000"/>
                </a:solidFill>
                <a:latin typeface="Arial"/>
                <a:ea typeface="Arial"/>
              </a:rPr>
              <a:t>assess the risk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of injury or harm to a person resulting from each hazard, if any, identified under paragraph (a), and (c) consider the means by which the </a:t>
            </a:r>
            <a:r>
              <a:rPr b="0" lang="en-US" sz="2300" spc="-1" strike="noStrike">
                <a:solidFill>
                  <a:srgbClr val="ff0000"/>
                </a:solidFill>
                <a:latin typeface="Arial"/>
                <a:ea typeface="Arial"/>
              </a:rPr>
              <a:t>risk may be reduc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ccupational Safety and Health Regulation 1996, Part 3, 3.1(a)-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[Work Health and Safety Bill, comments closed 30/1/1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ic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Persons who control or manage matters that give rise or may give rise to risks to health or safety are responsible for </a:t>
            </a:r>
            <a:r>
              <a:rPr b="0" lang="en-US" sz="2300" spc="-1" strike="noStrike">
                <a:solidFill>
                  <a:srgbClr val="ff0000"/>
                </a:solidFill>
                <a:latin typeface="Arial"/>
                <a:ea typeface="Arial"/>
              </a:rPr>
              <a:t>eliminating or reducing those risks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so far </a:t>
            </a:r>
            <a:r>
              <a:rPr b="0" lang="en-US" sz="2300" spc="-1" strike="noStrike">
                <a:solidFill>
                  <a:srgbClr val="3366ff"/>
                </a:solidFill>
                <a:latin typeface="Arial"/>
                <a:ea typeface="Arial"/>
              </a:rPr>
              <a:t>as is reasonably practicab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ccupational Health and Safety Act 2004, Part 1, 4(2) [replace 2017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[OHS Amendment Regulations 2014 recognize GHS, SDSs, etc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76360" y="380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shou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57240" y="1219320"/>
            <a:ext cx="2057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886200" y="3657600"/>
            <a:ext cx="144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209680" y="4724280"/>
            <a:ext cx="6172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:   Establish the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:      Monitor and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:   Consult and commun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2819520" y="380880"/>
            <a:ext cx="327636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20840" y="1905120"/>
            <a:ext cx="861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 of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iden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r-acciden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t scho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t similar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storming, preferably with colleag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lists of possible 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oritative sources e.g. (M)SDSs,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ssess the severity of a ris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need to consi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sequences of the event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ance that it will occur (likeliho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 ISO 31000:2009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manageme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B 436:2013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management guideline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76360" y="304920"/>
            <a:ext cx="2819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sk matr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1908360" y="1371600"/>
            <a:ext cx="22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231840" y="2667960"/>
            <a:ext cx="54612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1905840" y="1752480"/>
            <a:ext cx="20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or      Sev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62120" y="2514600"/>
            <a:ext cx="1218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ik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1828800" y="2286000"/>
            <a:ext cx="236232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8"/>
          <p:cNvSpPr/>
          <p:nvPr/>
        </p:nvSpPr>
        <p:spPr>
          <a:xfrm>
            <a:off x="2971800" y="22860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9"/>
          <p:cNvSpPr/>
          <p:nvPr/>
        </p:nvSpPr>
        <p:spPr>
          <a:xfrm>
            <a:off x="4191120" y="22860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0"/>
          <p:cNvSpPr/>
          <p:nvPr/>
        </p:nvSpPr>
        <p:spPr>
          <a:xfrm>
            <a:off x="1828800" y="34290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1"/>
          <p:cNvSpPr/>
          <p:nvPr/>
        </p:nvSpPr>
        <p:spPr>
          <a:xfrm>
            <a:off x="1828800" y="47242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3354840" y="2455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3"/>
          <p:cNvSpPr/>
          <p:nvPr/>
        </p:nvSpPr>
        <p:spPr>
          <a:xfrm>
            <a:off x="3202920" y="3657600"/>
            <a:ext cx="79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4"/>
          <p:cNvSpPr/>
          <p:nvPr/>
        </p:nvSpPr>
        <p:spPr>
          <a:xfrm>
            <a:off x="5896080" y="190800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en-US" sz="32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acceptable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5"/>
          <p:cNvSpPr/>
          <p:nvPr/>
        </p:nvSpPr>
        <p:spPr>
          <a:xfrm>
            <a:off x="5943600" y="2666880"/>
            <a:ext cx="299556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doubt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IDER THE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6"/>
          <p:cNvSpPr/>
          <p:nvPr/>
        </p:nvSpPr>
        <p:spPr>
          <a:xfrm>
            <a:off x="5938920" y="3809880"/>
            <a:ext cx="2798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unacceptable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N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DO 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7"/>
          <p:cNvSpPr/>
          <p:nvPr/>
        </p:nvSpPr>
        <p:spPr>
          <a:xfrm>
            <a:off x="5791320" y="1828800"/>
            <a:ext cx="3200400" cy="32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8"/>
          <p:cNvSpPr/>
          <p:nvPr/>
        </p:nvSpPr>
        <p:spPr>
          <a:xfrm>
            <a:off x="6860520" y="129528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9"/>
          <p:cNvSpPr/>
          <p:nvPr/>
        </p:nvSpPr>
        <p:spPr>
          <a:xfrm>
            <a:off x="2059200" y="38098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0"/>
          <p:cNvSpPr/>
          <p:nvPr/>
        </p:nvSpPr>
        <p:spPr>
          <a:xfrm>
            <a:off x="2211480" y="251460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971640" y="551664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matrices used in schools are 3 x 3 to 5 x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www.riskassess.com.au/learning_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archy of options: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protective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295280" y="601992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"/>
          <p:cNvSpPr/>
          <p:nvPr/>
        </p:nvSpPr>
        <p:spPr>
          <a:xfrm flipH="1">
            <a:off x="1295280" y="2209680"/>
            <a:ext cx="327672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"/>
          <p:cNvSpPr/>
          <p:nvPr/>
        </p:nvSpPr>
        <p:spPr>
          <a:xfrm>
            <a:off x="4572000" y="2209680"/>
            <a:ext cx="327672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02:46:40Z</dcterms:created>
  <dc:creator>Phillip Crisp</dc:creator>
  <dc:description/>
  <dc:language>en-US</dc:language>
  <cp:lastModifiedBy>Phillip Crisp</cp:lastModifiedBy>
  <cp:lastPrinted>2010-11-30T03:29:40Z</cp:lastPrinted>
  <dcterms:modified xsi:type="dcterms:W3CDTF">2015-06-21T14:05:06Z</dcterms:modified>
  <cp:revision>156</cp:revision>
  <dc:subject/>
  <dc:title>Risk assessment and control of risks</dc:title>
</cp:coreProperties>
</file>