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B12-C889-4A5F-ABAC-E5FAAE2E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4D1-C9AB-4E61-A8A1-8ADD242C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421-8DF6-4879-B48E-1735AA0E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32D-1330-4A4A-9BFC-324AF759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FE3-811C-43A1-8C5E-628C7B17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168-3484-4A2A-95DA-5530D320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FA4-7FDC-4948-BDFB-457006E4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141-6F41-486A-A8A2-286CE3F1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386-9948-4E76-AFA9-F2F54741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AC5-A27B-4279-98B1-8F30484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EEA-810C-4EB1-822C-3397979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FE5-3E9E-4B4A-85F7-81BE356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55C8-6F76-4F32-8471-46F7C5875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HS and RiskAss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new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burning_hair_medium.jpg"/>
          <p:cNvPicPr/>
          <p:nvPr/>
        </p:nvPicPr>
        <p:blipFill>
          <a:blip r:embed="rId1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explos"/>
          <p:cNvPicPr/>
          <p:nvPr/>
        </p:nvPicPr>
        <p:blipFill>
          <a:blip r:embed="rId1"/>
          <a:stretch/>
        </p:blipFill>
        <p:spPr>
          <a:xfrm>
            <a:off x="533520" y="0"/>
            <a:ext cx="2209680" cy="220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lamme"/>
          <p:cNvPicPr/>
          <p:nvPr/>
        </p:nvPicPr>
        <p:blipFill>
          <a:blip r:embed="rId2"/>
          <a:stretch/>
        </p:blipFill>
        <p:spPr>
          <a:xfrm>
            <a:off x="3276720" y="0"/>
            <a:ext cx="220824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ondflam"/>
          <p:cNvPicPr/>
          <p:nvPr/>
        </p:nvPicPr>
        <p:blipFill>
          <a:blip r:embed="rId3"/>
          <a:stretch/>
        </p:blipFill>
        <p:spPr>
          <a:xfrm>
            <a:off x="6019920" y="0"/>
            <a:ext cx="2162160" cy="2165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bottle"/>
          <p:cNvPicPr/>
          <p:nvPr/>
        </p:nvPicPr>
        <p:blipFill>
          <a:blip r:embed="rId4"/>
          <a:stretch/>
        </p:blipFill>
        <p:spPr>
          <a:xfrm>
            <a:off x="457200" y="22417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acid_red"/>
          <p:cNvPicPr/>
          <p:nvPr/>
        </p:nvPicPr>
        <p:blipFill>
          <a:blip r:embed="rId5"/>
          <a:stretch/>
        </p:blipFill>
        <p:spPr>
          <a:xfrm>
            <a:off x="32004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skull"/>
          <p:cNvPicPr/>
          <p:nvPr/>
        </p:nvPicPr>
        <p:blipFill>
          <a:blip r:embed="rId6"/>
          <a:stretch/>
        </p:blipFill>
        <p:spPr>
          <a:xfrm>
            <a:off x="5943600" y="2286000"/>
            <a:ext cx="235908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exclam"/>
          <p:cNvPicPr/>
          <p:nvPr/>
        </p:nvPicPr>
        <p:blipFill>
          <a:blip r:embed="rId7"/>
          <a:stretch/>
        </p:blipFill>
        <p:spPr>
          <a:xfrm>
            <a:off x="533520" y="4800600"/>
            <a:ext cx="2057400" cy="2054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silhouete"/>
          <p:cNvPicPr/>
          <p:nvPr/>
        </p:nvPicPr>
        <p:blipFill>
          <a:blip r:embed="rId8"/>
          <a:stretch/>
        </p:blipFill>
        <p:spPr>
          <a:xfrm>
            <a:off x="33526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Aquatic-pollut-red"/>
          <p:cNvPicPr/>
          <p:nvPr/>
        </p:nvPicPr>
        <p:blipFill>
          <a:blip r:embed="rId9"/>
          <a:stretch/>
        </p:blipFill>
        <p:spPr>
          <a:xfrm>
            <a:off x="6095880" y="4726080"/>
            <a:ext cx="2133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945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468360" y="404640"/>
            <a:ext cx="8136000" cy="60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fo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nted or transferred hazardous chemi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, at a minimum, be written in English and include the follow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duct identifier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zard pictogram or hazard statement consistent with the correct classification of the chemi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minimum text and pictogram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ume                     Text                     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500 mL                  2.5 mm                       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mL to 5 L              3 mm                        2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afe Work Australia “Labelling of Workplace Hazardous Chemicals Code of Practice” March 2015, adopted in each juridic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Assess follows the Code of Practice for label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Substances Inform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hsis.safeworkaustralia.gov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S information/Hazardous chemicals/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“GHS Hazardous Chemical Information List” which is “a work in progress” (last update Dec 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cen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msy to use, due to need to translate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077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hemicals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cha.europa.eu/information-on-chemicals/cl-inventory-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and Labelling (CL)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by chemical companies in Europ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lassifications according to GH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sed 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tes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msy to use, due to need to translate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437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ata available only for common industrial chemicals (e.g. Na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a solution is regarded as mixture, with water as an inert dil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rules for mixtures a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 www.riskassess.com.au/docsGHSdataSolutions.pdf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ummary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iskAss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ure chemical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HA data “Harmonised classification”,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not, most common classification (more conservative, if tw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olution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HA data “Specific concentration limits”,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not, application of GHS rules for mixtures to ECHA data for pure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Assess data updated as ECHA upda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Assess data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 from other sourc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l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ew developments in RiskAss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8066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January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HS data added to chemical database for &gt;1000 pure substances and for their most common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ay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HS labelling system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mple and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tinually updating data, e.g. b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ding extra features in response to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.g. part-sheet label 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verything also added to Student RiskAssess + PI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51520" cy="233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1460520" cy="88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6300720" y="1700280"/>
            <a:ext cx="1371600" cy="74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5219640" y="3068640"/>
            <a:ext cx="24638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ly agreed system (UN, esp. Europ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hysical hazards, e.g. flamm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ealth hazards, e.g. carcinogeni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vironmental hazards, e.g. acute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 new hazard pictogr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ignal wo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zard state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ecautionary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 Data Sheets (SD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pdated &amp; more extens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Substanc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SDSs by 1/1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cept VIC and WA, since no Work Health Safety Act y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le Book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61pp, 3.2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fficial text, Australia using Rev. 3 (2009), but  Rev. 6 (2015) lat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ion Gu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9pp, 0.9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asy-to-read summary and learning tool, from UNITAR websi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safeworkaustralia.gov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S informa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ous chemical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download from linked UNEC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unec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ur Work/Transport/Dangerous Go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official text and corrigend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(Rev. 6) 2015 [one document] or GHS (Rev. 3) 2009 [in piec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2057040"/>
            <a:ext cx="44956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classification of a chemical, all else follow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391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zing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es Und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active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phoric 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phoric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Heating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ces which, in contact with water, emit flammabl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zing 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zing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Per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ve to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Corrosion/Irr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Eye Damage/Eye Irr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or Skin Sens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 Cell Mutage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cinoge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tive Toxi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arget Organ Toxicity – Single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arget Organ Toxicity – Repeated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ation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7913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to the Aquat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accumulation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apid degra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to the Ozon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cluded from legisla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LIQ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                           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Flash point &lt;23°C and initial boiling point &lt;35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 Flash point &lt;23°C and initial boiling point &gt;35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Flash point 23-60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    Flash point 60-93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ame as DG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 group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+ “Combust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category number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for original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identifier (e.g.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shipping name &amp; UN Number (if Dangerous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, address and phone number of Australian importer or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 and proportions, if a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word e.g. Danger or 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utionary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information, e.g. first aid &amp; emergenc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iry date of the chemical, if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08-09-18T23:01:23Z</cp:lastPrinted>
  <dcterms:modified xsi:type="dcterms:W3CDTF">2016-06-02T13:13:22Z</dcterms:modified>
  <cp:revision>136</cp:revision>
  <dc:subject/>
  <dc:title>Risk assessment and control of risks</dc:title>
</cp:coreProperties>
</file>