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48D5-F920-47F8-8CAC-ACD90A208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0237-9300-4DDC-B822-64A1C6B02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46FF-212D-4B5F-9DA7-34B18EA3B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5AF9-91EA-48FF-B0FB-B33116E1C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6091-772B-4589-B003-A403CE512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9A94-5935-4497-AD89-5CA367C4A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7421-C092-4FCC-AF7F-588EE4D09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022C-38F1-4FF0-A168-50C7B83F7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3E6F-2294-436E-96E0-23294662A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7B82-0CD5-434D-B924-662A56AEA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C615-E5FD-4061-8BEC-9FAFB79AE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E35C-4368-40F5-8AA2-95DE3AAAC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A441-481F-4A54-8A9E-1F74AB3D5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FCFA-9BC6-4799-9F10-E3A3879C3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E217-0F6C-4938-8DF7-E9858BD02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12EF-3ACD-485B-B8C9-B60F6ADB8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B7F6-1488-4D66-8943-BB21837CB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54A7-45FE-4629-B601-529C41DAC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F8D2-89A9-4C94-A769-FBB7E0331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AC94-85A1-48D1-A1F3-DDE0345D6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0D3B-3B53-4143-89CF-7B776271F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2744-3157-4298-B81E-4CEC1B4E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B04-07A8-4937-A9A9-F7896B18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6424-0BFD-4D49-9076-5FAA226A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295-56E1-4ED7-BDF5-DBCECC2D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9C20-541D-4FA4-B4C6-7D208897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8BF4-6ABD-4D7F-8CE7-454EE915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0A9D-BAEF-4C56-A5DF-8641342E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C01-4466-4363-88C8-7D0DC2B8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EE17-8712-4415-AEAC-5A0F90C5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79C-6C95-4E0B-B1A5-82FA7CCA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C96-5152-488B-994B-9CC66B39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1D9-0B2E-48A4-97E2-37421832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7D40-BE9D-4851-AD91-63BF396C2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2060640"/>
            <a:ext cx="9036000" cy="25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datory risk assessments for Primary School science experimen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 RiskAssess help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444640"/>
            <a:ext cx="640080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lip Crisp and Eva Cr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burning_hair_medium.jpg"/>
          <p:cNvPicPr/>
          <p:nvPr/>
        </p:nvPicPr>
        <p:blipFill>
          <a:blip r:embed="rId1"/>
          <a:stretch/>
        </p:blipFill>
        <p:spPr>
          <a:xfrm>
            <a:off x="6300720" y="115920"/>
            <a:ext cx="2160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sess the severity of a ris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equences of the even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ce that it will occur (likelih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ISO 31000:2009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 436:2013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 guidelin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y of options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1295280" y="60199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 flipH="1">
            <a:off x="129528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457200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87280" y="475920"/>
            <a:ext cx="338292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3"/>
          <p:cNvSpPr/>
          <p:nvPr/>
        </p:nvSpPr>
        <p:spPr>
          <a:xfrm>
            <a:off x="4643280" y="1125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5"/>
          <p:cNvSpPr/>
          <p:nvPr/>
        </p:nvSpPr>
        <p:spPr>
          <a:xfrm>
            <a:off x="2771640" y="126828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7"/>
          <p:cNvCxnSpPr/>
          <p:nvPr/>
        </p:nvCxnSpPr>
        <p:spPr>
          <a:xfrm>
            <a:off x="2771280" y="1268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Straight Arrow Connector 10"/>
          <p:cNvCxnSpPr/>
          <p:nvPr/>
        </p:nvCxnSpPr>
        <p:spPr>
          <a:xfrm>
            <a:off x="6659280" y="1268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Rectangle 2"/>
          <p:cNvSpPr/>
          <p:nvPr/>
        </p:nvSpPr>
        <p:spPr>
          <a:xfrm>
            <a:off x="971640" y="1628640"/>
            <a:ext cx="33829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5003640" y="1628640"/>
            <a:ext cx="33832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971640" y="2997360"/>
            <a:ext cx="33829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control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5292720" y="2997360"/>
            <a:ext cx="25923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17"/>
          <p:cNvCxnSpPr/>
          <p:nvPr/>
        </p:nvCxnSpPr>
        <p:spPr>
          <a:xfrm>
            <a:off x="2771280" y="2420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19"/>
          <p:cNvCxnSpPr/>
          <p:nvPr/>
        </p:nvCxnSpPr>
        <p:spPr>
          <a:xfrm>
            <a:off x="6659280" y="2420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Straight Connector 21"/>
          <p:cNvSpPr/>
          <p:nvPr/>
        </p:nvSpPr>
        <p:spPr>
          <a:xfrm>
            <a:off x="277164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22"/>
          <p:cNvSpPr/>
          <p:nvPr/>
        </p:nvSpPr>
        <p:spPr>
          <a:xfrm>
            <a:off x="1332000" y="3933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4"/>
          <p:cNvSpPr/>
          <p:nvPr/>
        </p:nvSpPr>
        <p:spPr>
          <a:xfrm>
            <a:off x="1332000" y="836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28"/>
          <p:cNvCxnSpPr/>
          <p:nvPr/>
        </p:nvCxnSpPr>
        <p:spPr>
          <a:xfrm>
            <a:off x="1331640" y="836280"/>
            <a:ext cx="16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Rectangle 2"/>
          <p:cNvSpPr/>
          <p:nvPr/>
        </p:nvSpPr>
        <p:spPr>
          <a:xfrm>
            <a:off x="684360" y="4508640"/>
            <a:ext cx="8135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ent level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isk level without any control measures besides “routine procedur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al level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isk level with control measures i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risk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807696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frequency of injuri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to stude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to school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otes a more enquiring attitude to safe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 for paperwork, litigation and payo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la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Australian Curricul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i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3040" y="2060640"/>
            <a:ext cx="807696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consideration of risks and control measu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of records for legal purpo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ful for new/inexperienced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mits spur-of-the-moment experi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16360" y="1155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Ass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00720" y="43920"/>
            <a:ext cx="274320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72880" y="252576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-108000" y="1916280"/>
            <a:ext cx="2793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Asses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059280" y="2502000"/>
            <a:ext cx="1919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0" y="1628640"/>
            <a:ext cx="324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RiskAsses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 flipH="1">
            <a:off x="1403280" y="765000"/>
            <a:ext cx="2881440" cy="12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4427640" y="765000"/>
            <a:ext cx="3240000" cy="1151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108000" y="3141720"/>
            <a:ext cx="2519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rted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&gt;1300 scho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3059280" y="3284640"/>
            <a:ext cx="2244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rted 2013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me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st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&gt;250 scho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6227640" y="2502000"/>
            <a:ext cx="23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5867280" y="1628640"/>
            <a:ext cx="324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RiskAsses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6372360" y="3284640"/>
            <a:ext cx="22431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lease 2016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me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st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&gt;120 scho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4356000" y="765000"/>
            <a:ext cx="0" cy="1151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03280" y="54450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6156360" y="5445000"/>
            <a:ext cx="2840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4"/>
          <p:cNvSpPr/>
          <p:nvPr/>
        </p:nvSpPr>
        <p:spPr>
          <a:xfrm>
            <a:off x="250920" y="544500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22"/>
          <p:cNvSpPr/>
          <p:nvPr/>
        </p:nvSpPr>
        <p:spPr>
          <a:xfrm>
            <a:off x="6084720" y="544500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9"/>
          <p:cNvSpPr/>
          <p:nvPr/>
        </p:nvSpPr>
        <p:spPr>
          <a:xfrm flipV="1">
            <a:off x="250920" y="53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27"/>
          <p:cNvSpPr/>
          <p:nvPr/>
        </p:nvSpPr>
        <p:spPr>
          <a:xfrm flipV="1">
            <a:off x="5796000" y="53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28"/>
          <p:cNvSpPr/>
          <p:nvPr/>
        </p:nvSpPr>
        <p:spPr>
          <a:xfrm flipV="1">
            <a:off x="6084720" y="53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29"/>
          <p:cNvSpPr/>
          <p:nvPr/>
        </p:nvSpPr>
        <p:spPr>
          <a:xfrm flipV="1">
            <a:off x="9036000" y="53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" y="333360"/>
            <a:ext cx="9107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requirements in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Curriculum fo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s 3-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ly use appropriate materials, tools or equipment . . . (C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 safety rules for equipment and procedures (E) (Students) discuss ways to safely use equipment . . (A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s 5-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quipment and materials safely, identifying potential risks (C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 possible hazards involved in conducting investig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ow these risks can be reduced 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udents) describe potential safety risks when planning methods (A)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Content descrip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Elabor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Achievemen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assessment of inherent ris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ow, go to end of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edium or more, record control measu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f high or extreme, third reviewer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checking by reviewer, if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scheduling to save time/allow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xpensive ($200 + GST per campus per y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830592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from school/h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hing to install on compu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al data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mited number of us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ments Safety Data 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ing input from school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backups of data &amp; backup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and ad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onic devices all suppo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31920" y="1484280"/>
            <a:ext cx="60199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ads (and other tabl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phones (iPhones, Android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0840" y="1905120"/>
            <a:ext cx="861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cience experiments are required by the new Australian Curriculum in Primary Schoo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isk assessments are required by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8560" y="1557000"/>
            <a:ext cx="7561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fer classro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s logical/legal requirements of curricul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s newest digital 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s training of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ppy Primary School Teach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0840" y="1905120"/>
            <a:ext cx="861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School teachers are generally not science-trained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ous injuries may occur as a result of lack of knowledge/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5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raining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- all Primary teachers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- specialist Primary Science teacher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too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asy access to model experi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asy access to safety dat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asy system for risk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61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ol to assist with risk assessments following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- AU/ISO Standard on Risk Management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- Work Health Safety Act (or earlier law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background information on risks of chemicals, equipment and 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storage of records, communication, learning resources, scheduling, labelling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st way to meet logical and lega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6551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 Health &amp; Safety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a duty . . . to eliminate/minimise risks to health and safety as far as is reasonably practic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taking into account and weighing up</a:t>
            </a:r>
            <a:br>
              <a:rPr sz="3000"/>
            </a:b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all relevant ma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ing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the </a:t>
            </a: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likeliho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hazard or the risk concerned occurring; a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the </a:t>
            </a: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degree of har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might result from the hazard or the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rt 2, Sections 17 and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all relevant ma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ies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haviour of the c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th special n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th allergies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NOT book “risk assessment”, tick sheet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likelih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degree of har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ation requi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risk assessment using a risk matr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Aust/ISO Standard on Risk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76360" y="380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57240" y="1219320"/>
            <a:ext cx="2057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86200" y="36576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209680" y="47242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:   Establish the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:      Monitor and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:   Consult and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819520" y="380880"/>
            <a:ext cx="327636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0840" y="1905120"/>
            <a:ext cx="861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-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scho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imila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ing, preferably with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s of possible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46:40Z</dcterms:created>
  <dc:creator>Phillip Crisp</dc:creator>
  <dc:description/>
  <dc:language>en-US</dc:language>
  <cp:lastModifiedBy>Phillip Crisp</cp:lastModifiedBy>
  <cp:lastPrinted>2014-03-23T10:06:03Z</cp:lastPrinted>
  <dcterms:modified xsi:type="dcterms:W3CDTF">2016-06-02T13:12:59Z</dcterms:modified>
  <cp:revision>191</cp:revision>
  <dc:subject/>
  <dc:title>Risk assessment and control of risks</dc:title>
</cp:coreProperties>
</file>