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75D-02E9-4533-858D-61467AD6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355-2F0A-4258-8207-48D0C453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D48-F9DF-4E66-B0CC-B90C5DE7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698-1167-4D6C-A71D-E819F61F6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29E-591A-4257-AB2A-FA621675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D77-C25F-4431-B99B-8C2BBAF1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6F05-CAE6-4145-A4FD-5E45F550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9361-9660-4E95-9E7C-42B93D6D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7B8B-193E-4271-B6C0-83B323E2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655-FA4F-427E-B75C-ACF56EEB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501-D230-4E18-86BE-F222C066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0F6-8542-4BA3-B5DF-8C6D9C09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30F1-40DF-4A1E-BCF4-287DC12F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55D2-CDA1-49C9-8FC9-701C2C78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093-9955-4346-8253-DE8A1A08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DDA7-C79B-4C17-8DDE-D2091A48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86A-9047-4AD2-B8F7-7210999B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14E8-0644-4640-B878-05D0946F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11E-41DB-4CA9-A2D1-0E123718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B49-2B87-4D2E-B131-87A8506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072-B07B-4356-9306-6118CB0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921-EE7B-40F2-83E6-8525F4C6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AB3-6C1E-423B-9992-30202FEE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96A-33B4-4146-BD53-B0FF5805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75A-45C4-4C49-B9BE-9069171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266-C03A-4B48-BFED-9B2F6FCB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D33-B7E9-47A8-B4C9-B0B8774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93A-26A3-4BCE-9AB7-1A1E276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4DE-7F86-46C4-BE8B-D4364C3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4E5-BF99-458B-9539-9AEF959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1837-4547-4940-98A9-0F089DDC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siness.govt.nz/news" TargetMode="External"/><Relationship Id="rId2" Type="http://schemas.openxmlformats.org/officeDocument/2006/relationships/hyperlink" Target="http://www.business.govt.nz/news" TargetMode="External"/><Relationship Id="rId3" Type="http://schemas.openxmlformats.org/officeDocument/2006/relationships/hyperlink" Target="http://www.business.govt.nz/news" TargetMode="External"/><Relationship Id="rId4" Type="http://schemas.openxmlformats.org/officeDocument/2006/relationships/hyperlink" Target="http://www.business.govt.nz/new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.govt.nz/news/releases/2015" TargetMode="External"/><Relationship Id="rId2" Type="http://schemas.openxmlformats.org/officeDocument/2006/relationships/hyperlink" Target="http://www.business.govt.nz/news/releases/2015" TargetMode="External"/><Relationship Id="rId3" Type="http://schemas.openxmlformats.org/officeDocument/2006/relationships/hyperlink" Target="http://www.business.govt.nz/news/releases/2015" TargetMode="External"/><Relationship Id="rId4" Type="http://schemas.openxmlformats.org/officeDocument/2006/relationships/hyperlink" Target="http://www.business.govt.nz/news/releases/2015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956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 of science experiments: the logic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Ministry of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science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93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sh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25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1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NZ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science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sci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+GST per campus per year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ing up to $200+GST/campus/year in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     Textboo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Assess  CLEA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electronic template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information: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, equipment, biological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-based                          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torage                    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risk lev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rol measures             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 ordering &amp; lab scheduling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: Teacher-SciTech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sed for NZ                           Yes         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sci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im of the law is to reduce the number of New Zealanders killed or hurt at work. In New Zeal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n average 73 people die on the job each ye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ne in ten is harm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hese numbers are significantly higher than in countries like Australia and the UK, and must come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usines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ov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z/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and safety law chan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law to reduce injuries a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3600" y="404640"/>
            <a:ext cx="80787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APRIL 2016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&amp; Safety at Work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, so far as is reasonably practicable;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comply . . . to the extent that the person has . . . ability to influence and control the matter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: Model Work Health and Safety Act (Aust) s 1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 29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685800" y="1143000"/>
            <a:ext cx="79200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iwiRail ordered to pay $110K after contractor struck by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September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www.busines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gov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4"/>
              </a:rPr>
              <a:t>.nz/news/releases/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Worksafe New Zealand Act 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Z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4360" y="5589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.nz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5-10-06T11:17:03Z</dcterms:modified>
  <cp:revision>189</cp:revision>
  <dc:subject/>
  <dc:title>Risk assessment and control of risks</dc:title>
</cp:coreProperties>
</file>