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6F52F-528F-484B-9547-134672511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B4437-6D86-4208-BEC5-244BFB72C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B894C-7430-416F-8696-015656FA2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A0B33-70D5-4CFF-BC49-A58F9C0CB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89232-453E-4116-9010-1C008CC79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630F2-215E-41B5-AE8A-0AFA6DCC5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0E373-FC4E-4DF7-855D-256E11C85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8FC22-5634-4D2B-BB1B-6A5281587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361D9-AC5A-40DE-88A8-147A60D96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5CAD4-4224-4267-87CE-DDCA1251C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C00E-278F-4687-824A-3118E266F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22FE-8290-407F-82DE-AEC2EA411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B014-F3CF-4AE4-8A4E-7B13642FA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98D7-948D-4795-9764-5FA49A579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62AD-70EB-4F20-A5C9-C9385E9BD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98CD-B6F1-4B20-B709-E2FB1A0EC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106A-98A2-4705-A35D-E64564A62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9D92-BE44-495B-ADDE-E1E9752D6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4DEC-F625-430F-BE16-6E55D23A1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7D17-B568-4DFE-B32A-44BAD360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1246-7840-44C0-8BC2-BD534ECD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EDDA-E3EF-4842-A6E4-7341EF43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EE2D2-ABE8-4D62-A77C-BD003B924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info@riskassess.co.nz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2421000"/>
            <a:ext cx="7704000" cy="170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iskAssess:</a:t>
            </a:r>
            <a:br>
              <a:rPr sz="48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rove safety and save tim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76360" y="5157720"/>
            <a:ext cx="640080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hillip Crisp and Eva Cri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burning_hair_medium.jpg"/>
          <p:cNvPicPr/>
          <p:nvPr/>
        </p:nvPicPr>
        <p:blipFill>
          <a:blip r:embed="rId1"/>
          <a:stretch/>
        </p:blipFill>
        <p:spPr>
          <a:xfrm>
            <a:off x="6300720" y="115920"/>
            <a:ext cx="21607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17900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 from school/hom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thing to install on computer, tablet or phone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instant updat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limited number of simultaneous users and risk assessment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imal data ent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ements SD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ing input from science staf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ltiple backups of data &amp; backup serv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rt and adv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384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in to RiskAss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ww.riskassess.co.n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124000" y="2708280"/>
            <a:ext cx="5688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r name: CONSTAN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ssword:   201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alid for 2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fter that, contac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info@riskassess.co.nz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for a free trial for your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1979640" y="2565360"/>
            <a:ext cx="4680000" cy="136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920" y="1341000"/>
            <a:ext cx="7345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1 (P&amp;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 to risk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2 (P&amp;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 and features of RiskAssess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3 (Individu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s-on using RiskAssess “Making hydrogen”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4 (At leis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re RiskAssess at home/work with trial lo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Screen Shot 2017-09-01 at 4.25.10 PM.png"/>
          <p:cNvPicPr/>
          <p:nvPr/>
        </p:nvPicPr>
        <p:blipFill>
          <a:blip r:embed="rId1"/>
          <a:stretch/>
        </p:blipFill>
        <p:spPr>
          <a:xfrm>
            <a:off x="216000" y="1341360"/>
            <a:ext cx="8712000" cy="4889520"/>
          </a:xfrm>
          <a:prstGeom prst="rect">
            <a:avLst/>
          </a:prstGeom>
          <a:ln w="0">
            <a:noFill/>
          </a:ln>
        </p:spPr>
      </p:pic>
      <p:sp>
        <p:nvSpPr>
          <p:cNvPr id="54" name="TextBox 5"/>
          <p:cNvSpPr/>
          <p:nvPr/>
        </p:nvSpPr>
        <p:spPr>
          <a:xfrm>
            <a:off x="108000" y="476280"/>
            <a:ext cx="87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afe New Zealand, September 2017 up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76360" y="380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shou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657240" y="1219320"/>
            <a:ext cx="2057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3886200" y="3657600"/>
            <a:ext cx="1447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2209680" y="4724280"/>
            <a:ext cx="6172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ore:   Establish the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:      Monitor and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:   Consult and communic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2843280" y="380880"/>
            <a:ext cx="327636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20840" y="1905120"/>
            <a:ext cx="861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y of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iden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ar-acciden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t scho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t similar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instorming, preferably with colleag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lists of possible ri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horitative sources e.g. SDSs,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77724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assess the severity of a ris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need to consi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sequences of the event,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ance that it will occur (likeliho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Z ISO 31000:2009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 managemen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B 436:2013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 management guideline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684360" y="558972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 matrices used in schools are 3 x 3 to 5 x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www.riskassess.co.nz/info/learning_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archy of options: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ine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protective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4"/>
          <p:cNvSpPr/>
          <p:nvPr/>
        </p:nvSpPr>
        <p:spPr>
          <a:xfrm>
            <a:off x="1295280" y="6019920"/>
            <a:ext cx="65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5"/>
          <p:cNvSpPr/>
          <p:nvPr/>
        </p:nvSpPr>
        <p:spPr>
          <a:xfrm flipH="1">
            <a:off x="1295280" y="2209680"/>
            <a:ext cx="3276720" cy="381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6"/>
          <p:cNvSpPr/>
          <p:nvPr/>
        </p:nvSpPr>
        <p:spPr>
          <a:xfrm>
            <a:off x="4572000" y="2209680"/>
            <a:ext cx="3276720" cy="381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87280" y="475920"/>
            <a:ext cx="3382920" cy="55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 ri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traight Connector 3"/>
          <p:cNvSpPr/>
          <p:nvPr/>
        </p:nvSpPr>
        <p:spPr>
          <a:xfrm>
            <a:off x="4643280" y="1125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traight Connector 5"/>
          <p:cNvSpPr/>
          <p:nvPr/>
        </p:nvSpPr>
        <p:spPr>
          <a:xfrm>
            <a:off x="2771640" y="1268280"/>
            <a:ext cx="38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Straight Arrow Connector 7"/>
          <p:cNvCxnSpPr/>
          <p:nvPr/>
        </p:nvCxnSpPr>
        <p:spPr>
          <a:xfrm>
            <a:off x="2771280" y="126828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" name="Straight Arrow Connector 10"/>
          <p:cNvCxnSpPr/>
          <p:nvPr/>
        </p:nvCxnSpPr>
        <p:spPr>
          <a:xfrm>
            <a:off x="6659280" y="126828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5" name="Rectangle 2"/>
          <p:cNvSpPr/>
          <p:nvPr/>
        </p:nvSpPr>
        <p:spPr>
          <a:xfrm>
            <a:off x="971640" y="1628640"/>
            <a:ext cx="338292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≥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isk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5003640" y="1628640"/>
            <a:ext cx="338328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risk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971640" y="2997360"/>
            <a:ext cx="338292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control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5292720" y="2997360"/>
            <a:ext cx="259236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Straight Arrow Connector 17"/>
          <p:cNvCxnSpPr/>
          <p:nvPr/>
        </p:nvCxnSpPr>
        <p:spPr>
          <a:xfrm>
            <a:off x="2771280" y="242064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0" name="Straight Arrow Connector 19"/>
          <p:cNvCxnSpPr/>
          <p:nvPr/>
        </p:nvCxnSpPr>
        <p:spPr>
          <a:xfrm>
            <a:off x="6659280" y="242064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1" name="Straight Connector 21"/>
          <p:cNvSpPr/>
          <p:nvPr/>
        </p:nvSpPr>
        <p:spPr>
          <a:xfrm>
            <a:off x="2771640" y="3789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traight Connector 22"/>
          <p:cNvSpPr/>
          <p:nvPr/>
        </p:nvSpPr>
        <p:spPr>
          <a:xfrm>
            <a:off x="1332000" y="393372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traight Connector 24"/>
          <p:cNvSpPr/>
          <p:nvPr/>
        </p:nvSpPr>
        <p:spPr>
          <a:xfrm>
            <a:off x="1332000" y="836640"/>
            <a:ext cx="0" cy="30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Straight Arrow Connector 28"/>
          <p:cNvCxnSpPr/>
          <p:nvPr/>
        </p:nvCxnSpPr>
        <p:spPr>
          <a:xfrm>
            <a:off x="1331640" y="836280"/>
            <a:ext cx="16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5" name="Rectangle 2"/>
          <p:cNvSpPr/>
          <p:nvPr/>
        </p:nvSpPr>
        <p:spPr>
          <a:xfrm>
            <a:off x="684360" y="4508640"/>
            <a:ext cx="813564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herent level of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risk level without any control measures besides “routine procedur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dual level of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risk level with control measures in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Ass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3059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parate sections for teacher and laboratory technicia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itial assessment of inherent risk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if low, go to end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if medium or more, record control measure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if high or extreme, third reviewer requi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oss-checking by teacher/labtech/review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heduling, ordering, labelling to save 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02:46:40Z</dcterms:created>
  <dc:creator>Phillip Crisp</dc:creator>
  <dc:description/>
  <dc:language>en-US</dc:language>
  <cp:lastModifiedBy>Phillip Crisp</cp:lastModifiedBy>
  <cp:lastPrinted>2008-09-18T23:01:23Z</cp:lastPrinted>
  <dcterms:modified xsi:type="dcterms:W3CDTF">2017-09-03T01:15:31Z</dcterms:modified>
  <cp:revision>220</cp:revision>
  <dc:subject/>
  <dc:title>Risk assessment and control of risks</dc:title>
</cp:coreProperties>
</file>