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8D78-2DE5-42FB-A2C1-6DF3BCB27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0712-4D18-488B-9150-A654A67CB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BE78-D9F2-42D6-915E-C12E5F955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766A-CB82-49B2-93DE-0E0556AAB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1: burning fingers with hot Bunsen bur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2: fight in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3: rat’s liver eating, self-harm, allergic reaction causing death,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8878-70F9-49DF-B9D7-EC8923F7C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B43D-3834-4A3F-B8BA-C221738FE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CFD9-9AF0-47B4-86E8-1CA38D33E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AAB7-76FF-4858-AC74-DFCBE0C67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7CBF-BE1B-41EF-97E4-5210EF94F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209D-DAC0-4C59-9F74-C7F107EB5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4306-9108-41F8-8573-067DD0531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2312-F97D-4D19-AFBB-7F678052D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7832-2873-40B5-BE9A-AC5DB8765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levant matters incl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ie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of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th speci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th allergi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book “risk assessment”, tick sheet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 of harm consideration requ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 risk assessment using a risk 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Aust/ISO Standard on Risk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D1C5-40FC-4B80-A420-8AD48598A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937C-4AAE-457F-BBB2-E549D6715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E81B-E88D-40A0-8800-F53412063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7023-DD48-4BFA-8A58-3D8060FC6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5456-A677-4829-B729-A0AFFFB64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0F64-5883-4CD0-8866-1DDEF9A4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logy of identify, assess,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D692-5DB0-453D-AEC9-F444D3081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0C2A-E04F-4886-BEB6-4817AEA1D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D529-C1BF-4B63-A887-0C8FACDFF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5E2D-424A-4647-A598-6897B2391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ion: prohibited chem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on: potassium 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: demonstration with blast shield, poking with a stick, no nuts at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ering: fume cup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: lawn mowing, policy of not eating in the lab, small groups, teacher’s aid for students with special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E: safety glasses; try to use other options, PPE is final backup (not “last resor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4250-7AF7-43ED-BCB6-D46287FFC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istic: defence forces explosives range starting fire during day of high fire danger in Blue Mountains and couldn’t fight due to unexploded ordinance; Enagine fire from angel grinder of Water Board on total fire ban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545-6888-42E2-80AC-DAAE0FA1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197-E15B-4E74-A1AD-AD82AFF6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AC3-9746-458F-8CF4-DE227E17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7E3-3059-4BC4-947B-0C7E37DC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61C-B97E-48DC-A132-6129E2EE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452-3ABF-4EF1-897F-84C10D70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804-DDAD-4DBE-9D95-52D2EEAD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D39-63B0-455F-B4AC-6705514C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7A7-E54D-4EDD-ABA8-FF8F2824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E95-F639-489E-83F8-190D1390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3F0-54E6-42E7-A603-0518BE2F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0C0-5ED9-4EF4-AA8E-45ED9573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16AA-DA1D-4064-84D7-EAC189071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2437920"/>
            <a:ext cx="6985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: the Law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gic and the Labb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lip 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Solve Australia Pty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6324480" y="533520"/>
          <a:ext cx="2005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33520"/>
                    <a:ext cx="200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evel scale of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: first aid treatment at the scho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treatment by a do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e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: immediate hospitaliz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v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evel scale of likeli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: known to commonly occur; not unexpected in the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ikel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uncommon, rare, but sufficiently frequent to have been witnessed by self or a known per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likel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: very rare; have heard of it happening; may possibly have been witnessed by self or a known per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ery unlik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517840" y="129528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55520" y="3353760"/>
            <a:ext cx="546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905480" y="175248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     Moderate   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762120" y="2514600"/>
            <a:ext cx="1218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1828800" y="2286000"/>
            <a:ext cx="358128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2971800" y="2286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4191120" y="2286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1828800" y="34290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7"/>
          <p:cNvSpPr/>
          <p:nvPr/>
        </p:nvSpPr>
        <p:spPr>
          <a:xfrm>
            <a:off x="1828800" y="47242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2059200" y="2631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335484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3"/>
          <p:cNvSpPr/>
          <p:nvPr/>
        </p:nvSpPr>
        <p:spPr>
          <a:xfrm>
            <a:off x="457380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4"/>
          <p:cNvSpPr/>
          <p:nvPr/>
        </p:nvSpPr>
        <p:spPr>
          <a:xfrm>
            <a:off x="3354480" y="36576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4573800" y="3675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6"/>
          <p:cNvSpPr/>
          <p:nvPr/>
        </p:nvSpPr>
        <p:spPr>
          <a:xfrm>
            <a:off x="4422240" y="497052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5896080" y="1908000"/>
            <a:ext cx="2805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w r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5943600" y="2666880"/>
            <a:ext cx="2995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OTHER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5867280" y="3733920"/>
            <a:ext cx="34290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very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ther D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DO IT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WITH GREAT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5938920" y="5043600"/>
            <a:ext cx="279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n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5791320" y="1828800"/>
            <a:ext cx="3200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2"/>
          <p:cNvSpPr/>
          <p:nvPr/>
        </p:nvSpPr>
        <p:spPr>
          <a:xfrm>
            <a:off x="6860520" y="129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3"/>
          <p:cNvSpPr/>
          <p:nvPr/>
        </p:nvSpPr>
        <p:spPr>
          <a:xfrm>
            <a:off x="2059200" y="5105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4"/>
          <p:cNvSpPr/>
          <p:nvPr/>
        </p:nvSpPr>
        <p:spPr>
          <a:xfrm>
            <a:off x="2059200" y="3809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5"/>
          <p:cNvSpPr/>
          <p:nvPr/>
        </p:nvSpPr>
        <p:spPr>
          <a:xfrm>
            <a:off x="3278160" y="5105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o stud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o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law (c.f. industr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maintain variety of chemicals and equi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consideration of risks and control meas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of records for legal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 between teachers and laboratory technic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ful for new/inexperienced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s cowboys/spur of the mo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practic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66520" y="21333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er-based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(almo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-ba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consum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wieldy form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many prompts - mostly empty spac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few prompts - requires knowledge &amp; ski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search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icult to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rap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pts sensitive to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s paper con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review and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moni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to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d to work in school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.g. &gt;850 schools in AU+NZ+C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-based risk assessment to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ised to the school sit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electronic templates (AU/ISO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database information on risk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(chemical, equipment, biological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equipment order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lab schedu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haring of experiment templates for custom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sections for teacher and laboratory technici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assessment of “inherent risk”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low, go to end of form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medium or more, record control measur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high or extreme, third reviewer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-checking by teacher/labtech/re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ing and ordering system to sav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expensive ($160+GST per campus per ye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Health &amp; Safety Act 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a duty . . . to eliminate/minimise risks to health and safety as far as is reasonably practic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taking into account and weighing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ll relevant matt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cluding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the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likeliho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hazard or the risk concerned occurring;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the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degree of ha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might result from the hazard or the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rt 2, Sections 17 and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, tablet or phon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stant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(virtuall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MSDS/S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ience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BB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3055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risk assessment of labbie activities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 scheduling page to save time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view experiments up to 4 weeks ahea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easy access to teacher risk assessmen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date/time of each teacher submissio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note facility during preparati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tick box for completion of prepa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communication with teac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684360" y="544500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Legally, the labbie is only responsible for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leanup (before and after classroom experi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fer laborator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leg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ppy lab techs and teach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s safety training requirement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ew Australian Curriculum for Scien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International Baccalaure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extended investigations (student-initiated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mised for student us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students must agree to follow rules and instruction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on-line help screens and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to have all facilities of RiskAss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of 30 simultaneous users no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laptop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iPads and other table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smart phones (iPhones, Android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sts an additional $160 + GST per school per y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8377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C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HS Risk Management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2320" y="2743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OHS Risk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62120" y="50292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ECD, Procedure No: DEE EHU-04-1-4, OHS Risk Management Procedure, July 201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763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2057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86200" y="36576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209680" y="4724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:   Establish the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:      Monitor an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:   Consult and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819520" y="380880"/>
            <a:ext cx="3276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3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imila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, preferably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s of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the severity of a ris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ISO 31000:2009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 89-201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 guideli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908360" y="13716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31840" y="2667960"/>
            <a:ext cx="546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905840" y="175248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    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62120" y="2514600"/>
            <a:ext cx="121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828800" y="22860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297180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419112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1828800" y="3429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1828800" y="4724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335484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3202920" y="365760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5896080" y="19080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5943600" y="2666880"/>
            <a:ext cx="2995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HE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5938920" y="3809880"/>
            <a:ext cx="279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n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5791320" y="1828800"/>
            <a:ext cx="32004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6860520" y="129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2059200" y="3809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2211480" y="25146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y of options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1295280" y="60199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 flipH="1">
            <a:off x="129528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57200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52280" y="2438280"/>
            <a:ext cx="1905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391520" y="2666880"/>
            <a:ext cx="1600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057400" y="380880"/>
            <a:ext cx="190512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ten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ing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38480" y="838080"/>
            <a:ext cx="2743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operat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urer            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                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038480" y="2286000"/>
            <a:ext cx="2743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038480" y="3352680"/>
            <a:ext cx="27432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038480" y="4495680"/>
            <a:ext cx="2743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038480" y="5562720"/>
            <a:ext cx="2743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3886200" y="609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52280" y="2362320"/>
            <a:ext cx="152424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7391520" y="23623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16765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1905120" y="609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1905120" y="609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1905120" y="990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19051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19051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1905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190512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6934320" y="609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5638680" y="990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5"/>
          <p:cNvSpPr/>
          <p:nvPr/>
        </p:nvSpPr>
        <p:spPr>
          <a:xfrm>
            <a:off x="56386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5638680" y="3505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5638680" y="4648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5638680" y="5715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2895480" y="5715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37339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1"/>
          <p:cNvSpPr/>
          <p:nvPr/>
        </p:nvSpPr>
        <p:spPr>
          <a:xfrm>
            <a:off x="32004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3200400" y="990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4"/>
          <p:cNvSpPr/>
          <p:nvPr/>
        </p:nvSpPr>
        <p:spPr>
          <a:xfrm>
            <a:off x="693432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5"/>
          <p:cNvSpPr/>
          <p:nvPr/>
        </p:nvSpPr>
        <p:spPr>
          <a:xfrm>
            <a:off x="6553080" y="1371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6"/>
          <p:cNvSpPr/>
          <p:nvPr/>
        </p:nvSpPr>
        <p:spPr>
          <a:xfrm flipV="1">
            <a:off x="67057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7"/>
          <p:cNvSpPr/>
          <p:nvPr/>
        </p:nvSpPr>
        <p:spPr>
          <a:xfrm>
            <a:off x="647712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8"/>
          <p:cNvSpPr/>
          <p:nvPr/>
        </p:nvSpPr>
        <p:spPr>
          <a:xfrm flipV="1">
            <a:off x="6629400" y="2437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9"/>
          <p:cNvSpPr/>
          <p:nvPr/>
        </p:nvSpPr>
        <p:spPr>
          <a:xfrm>
            <a:off x="647712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0"/>
          <p:cNvSpPr/>
          <p:nvPr/>
        </p:nvSpPr>
        <p:spPr>
          <a:xfrm flipV="1">
            <a:off x="6629400" y="3504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1"/>
          <p:cNvSpPr/>
          <p:nvPr/>
        </p:nvSpPr>
        <p:spPr>
          <a:xfrm>
            <a:off x="6477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2"/>
          <p:cNvSpPr/>
          <p:nvPr/>
        </p:nvSpPr>
        <p:spPr>
          <a:xfrm flipV="1">
            <a:off x="662940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3"/>
          <p:cNvSpPr/>
          <p:nvPr/>
        </p:nvSpPr>
        <p:spPr>
          <a:xfrm>
            <a:off x="647712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4"/>
          <p:cNvSpPr/>
          <p:nvPr/>
        </p:nvSpPr>
        <p:spPr>
          <a:xfrm flipV="1">
            <a:off x="66294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5"/>
          <p:cNvSpPr/>
          <p:nvPr/>
        </p:nvSpPr>
        <p:spPr>
          <a:xfrm>
            <a:off x="502920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6"/>
          <p:cNvSpPr/>
          <p:nvPr/>
        </p:nvSpPr>
        <p:spPr>
          <a:xfrm flipV="1">
            <a:off x="518148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7"/>
          <p:cNvSpPr/>
          <p:nvPr/>
        </p:nvSpPr>
        <p:spPr>
          <a:xfrm flipV="1">
            <a:off x="53341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8"/>
          <p:cNvSpPr/>
          <p:nvPr/>
        </p:nvSpPr>
        <p:spPr>
          <a:xfrm>
            <a:off x="533412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9"/>
          <p:cNvSpPr/>
          <p:nvPr/>
        </p:nvSpPr>
        <p:spPr>
          <a:xfrm>
            <a:off x="4648320" y="4191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1"/>
          <p:cNvSpPr/>
          <p:nvPr/>
        </p:nvSpPr>
        <p:spPr>
          <a:xfrm>
            <a:off x="2057400" y="76212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2"/>
          <p:cNvSpPr/>
          <p:nvPr/>
        </p:nvSpPr>
        <p:spPr>
          <a:xfrm>
            <a:off x="2057400" y="220968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3"/>
          <p:cNvSpPr/>
          <p:nvPr/>
        </p:nvSpPr>
        <p:spPr>
          <a:xfrm>
            <a:off x="2057400" y="327672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4"/>
          <p:cNvSpPr/>
          <p:nvPr/>
        </p:nvSpPr>
        <p:spPr>
          <a:xfrm>
            <a:off x="2057400" y="441972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5"/>
          <p:cNvSpPr/>
          <p:nvPr/>
        </p:nvSpPr>
        <p:spPr>
          <a:xfrm>
            <a:off x="2057400" y="5486400"/>
            <a:ext cx="3505320" cy="45720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6"/>
          <p:cNvSpPr/>
          <p:nvPr/>
        </p:nvSpPr>
        <p:spPr>
          <a:xfrm>
            <a:off x="1828800" y="380880"/>
            <a:ext cx="4952880" cy="5867640"/>
          </a:xfrm>
          <a:prstGeom prst="rect">
            <a:avLst/>
          </a:prstGeom>
          <a:noFill/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8"/>
          <p:cNvSpPr/>
          <p:nvPr/>
        </p:nvSpPr>
        <p:spPr>
          <a:xfrm>
            <a:off x="7524720" y="6172200"/>
            <a:ext cx="1440000" cy="533520"/>
          </a:xfrm>
          <a:prstGeom prst="rect">
            <a:avLst/>
          </a:prstGeom>
          <a:noFill/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9"/>
          <p:cNvSpPr/>
          <p:nvPr/>
        </p:nvSpPr>
        <p:spPr>
          <a:xfrm>
            <a:off x="7544160" y="548640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1"/>
          <p:cNvSpPr/>
          <p:nvPr/>
        </p:nvSpPr>
        <p:spPr>
          <a:xfrm>
            <a:off x="7544160" y="617220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2"/>
          <p:cNvSpPr/>
          <p:nvPr/>
        </p:nvSpPr>
        <p:spPr>
          <a:xfrm>
            <a:off x="7925760" y="5105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3"/>
          <p:cNvSpPr/>
          <p:nvPr/>
        </p:nvSpPr>
        <p:spPr>
          <a:xfrm>
            <a:off x="7524720" y="5516640"/>
            <a:ext cx="1440000" cy="530280"/>
          </a:xfrm>
          <a:prstGeom prst="rect">
            <a:avLst/>
          </a:prstGeom>
          <a:noFill/>
          <a:ln cap="rnd" w="1584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10-11-30T03:29:40Z</cp:lastPrinted>
  <dcterms:modified xsi:type="dcterms:W3CDTF">2013-11-30T19:40:59Z</dcterms:modified>
  <cp:revision>145</cp:revision>
  <dc:subject/>
  <dc:title>Risk assessment and control of risks</dc:title>
</cp:coreProperties>
</file>