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42B3-547A-458E-ADF2-392211CD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CA5-BA0D-42EB-882A-F57ED055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AEE-4CC0-4DB3-96AE-7FE14A9A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7698-25BE-474A-96E7-2E48A966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BAF1-69A9-4E73-B4FE-693DF138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B2D-9EFC-4BE1-93D3-4C6F5497A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92B-0C28-4D32-B5B9-3E786E75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6A0-EC38-46CF-B5D5-D58C3349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7FA-A7AD-4613-BABC-DC94D352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D0B-FF9A-4EF4-8FEB-7065B5BF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78A-579D-4BE1-A38F-AE12F9B7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6F4F-C99B-472F-BD4D-C2D30AF9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F6BB-E1BF-40AE-9D57-564FFDF4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280-64A0-4CB0-8E8A-7AC834BB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2E3-8971-469F-9DC5-F9A13324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8E06-E93F-462E-811A-E6FE2FEC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60D1-E34D-41EF-958E-E11B8D06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C82-775D-4C40-BD2E-4B2C8A19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736-67C8-4FEE-8E81-684E1D4F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ED08-D2B2-4B77-A6B2-307052B3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3F4-765E-4F69-ADB9-117C64AE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DC9-0281-4161-A94A-92798AB1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3B7B-7310-4174-B492-69295404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AC0-14FE-49F3-8C6E-F9D96388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5DC-82B0-43AA-A4B2-1A50BABD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633-179B-4190-A4E1-7F067C85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A2B-679B-4890-B7D1-CBCF7BEE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A2B-EC2E-456A-B3E4-279AA9D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8DC-27C8-4C47-98F5-3704CD60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206-FD7A-47D5-8D22-FC94BE85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E12-0635-4748-9866-FBAB1B48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579-CA3F-49A8-B83B-00B870D8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63-0651-4AB0-817F-8396CE0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E15-5C8B-4520-AFDB-57DD985F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D99-0D31-48C2-AFC0-47DA19C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451-9A5A-4C64-B6A2-F812D45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23C-35CB-4498-903A-3103967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0FC-1CF4-4B6A-8D28-50FC1D9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AB32-9D6B-4E12-953D-87DD9D33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1640" y="2491920"/>
            <a:ext cx="6985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 and the latest developments in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25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1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20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st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S data for pure chem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57000"/>
            <a:ext cx="83059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pure chem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HA data (also via SafeWork Austral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 word, pictograms, hazard stat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January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hemicals Agency "Classification and Labelling Inventor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cha.europa.eu/information-on-chemicals/cl-inventory-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ork Australia “GHS Hazardous Chemical Information Li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afeworkaustralia.gov.au/sites/swa/whs-information/hazardous-chemicals/ghs/pages/g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hemicals . . . continu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91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s with classification of physical, health and environmental hazards of the pure chemic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cute toxicity – category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else follows from the rules of the GHS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 word (DANGER, WARNING, { }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ograms (9 picture diamonds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zard statements (e.g. Toxic if swallowed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cautionary statements (e.g. Store locked u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Assess provides first thre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Potential hazard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Standard handling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497640" y="-95112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250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962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S data for solutions of most chem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349000"/>
            <a:ext cx="830592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concentration ranges of chem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solutions used 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HA solution data, if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HS rules for mixtures, otherw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January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Nations "Globally Harmonized System of Classification and Labelling of Chemicals (GHS)"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., New York and Geneva, 2015. Free downlo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unece.org/trans/danger/publi/ghs/ghs_rev06/06files_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 . . . continu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305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regarded as mixture with inert dilu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HA solution data, for common industrial chemicals, e.g. sodium hydrox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HS rules for most solu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“STOT (lungs) SE 3” to 20% wt/w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“Carcinogenicity 1A” to 0.1% wt/w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essive downgrading of warnings as solutions become more dil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Screen Shot 2015-11-26 at 8.50.12 AM.png"/>
          <p:cNvPicPr/>
          <p:nvPr/>
        </p:nvPicPr>
        <p:blipFill>
          <a:blip r:embed="rId1"/>
          <a:stretch/>
        </p:blipFill>
        <p:spPr>
          <a:xfrm>
            <a:off x="0" y="223524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305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digit security code for student priv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s students seeing work of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use of SRA for student assess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visibility by staff (with staff log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y-fledged learnin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73000"/>
            <a:ext cx="83059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data already in RiskAss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with 3 Avery label sizes (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with full sheet of the same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pure chem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ny concentrations of common chem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l word, pictograms, hazard statem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from ECHA database, if availabl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following GHS rules for mixtures, if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early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77788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0 primary schools using RiskAss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ing with CEO Syd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enough to create a Mark 1 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tform for independent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early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(M)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4360" y="5589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5-11-26T01:14:11Z</dcterms:modified>
  <cp:revision>180</cp:revision>
  <dc:subject/>
  <dc:title>Risk assessment and control of risks</dc:title>
</cp:coreProperties>
</file>