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BF5D-7317-49B2-B318-69C0331B6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079C-711E-4F79-A469-4E8BEFD7C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63EE-46C0-4459-B0E0-C0F200CD7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9D72-A3A2-41D9-809F-65FE9489F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D220-1BAB-46C4-B095-2549D07E9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2227-A6E9-4C42-96F1-3857BC676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2B4D-FF10-48F1-975A-B251CF895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671E-6A47-463E-9655-EAC373DE6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710E-1507-4C15-B8C0-A9AF99065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2152-BE0A-4BF6-8CB1-D5C038905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14E1-17C7-4096-BB86-586F560B3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F647-B062-4C13-B464-93D5B683A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B7674-D98F-41C4-AC7A-0B72C25DF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BFF1-3AF3-4F1D-9083-90314DD61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5739-BCD6-4DD6-92BB-D39E7F8E5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2C75-301F-47B8-BAF9-8B3E50278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1603-628A-4895-812F-C66F01AAC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A6B2-C225-438E-BACB-C3CD61F69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BC4C-23A1-49D6-83E8-B7E91FAB8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2BEA-1ED4-42F2-9B3E-D179AA7E6D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773F-027F-4166-A214-2EF7AAA72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B8E1-9E8E-4043-A94D-DE3FBC2AF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3FDB-06E1-48B9-BB50-63E101CCB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C438-3DBA-4AB2-BFC7-92F8D9E4E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A99E-5B0C-4411-91F5-1F23CA7B2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3469-DBDA-464D-BBD8-2A59E9A19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A074-A9F1-4310-AAAB-F310D4297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E4AF-3B25-465E-A2C6-EA2F1E8C9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7358-EFA2-4E55-A226-DF40D7DCD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A3CB-6199-48D5-965C-4E7A358D5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FF83-C3BF-45A5-A31D-72DE38AC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C371-C338-46A5-B10F-20503BDD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894A-8882-4D26-BEBF-8765AF14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44CC-3477-459D-92F0-C30E6FFD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EC16-EE74-4330-B8A6-163182D6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F7A-5C93-4CAB-8868-387F868C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E2A-823D-4395-AE13-39A6FFAF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FA6C-C2AC-4CEE-A93E-0B05050B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7F7-11E3-4626-9E03-2BFC0530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AD4E-E88C-41A1-AD84-90D775101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C7FA-DDC8-478B-91DF-C03C5B6D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354B-C0D4-483C-994C-49FAEC59A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2491920"/>
            <a:ext cx="7812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Assess for new and experienced users</a:t>
            </a:r>
            <a:br>
              <a:rPr sz="12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4653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illip Crisp and Eva Cri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6324480" y="533520"/>
          <a:ext cx="2005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33520"/>
                    <a:ext cx="2005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arate sections for teacher and laboratory technicia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 assessment of inherent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low, go to e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medium or more, record control measur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high or extreme, third reviewer requ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oss-checking by teacher/labtech/revie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ing and ordering system to sav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expensive ($200+GST per campus per ye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17900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from school/h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hing to install on computer, tablet or phon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nstant upd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mited number of simultaneous users and risk assess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al data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ments (M)S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ing input from science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backups of data &amp; backup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and ad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 and tri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13456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arate risk assessmen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each clas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each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02920" y="3499920"/>
            <a:ext cx="72658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gal requir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dering system 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ing system 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don’t use multiple class schedulin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arate responsi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280" y="2420640"/>
            <a:ext cx="80773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acher responsible for activities in classroo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Tech responsible for preparation before and cleanup af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Tech may assist in class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not responsi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ve risk assess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 electronic sig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32000" y="3068640"/>
            <a:ext cx="75549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es immutable legal recor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ects staff in case of legal a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you are NOT signing your life away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4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-up as you go alo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iskAssess has elaborate series of backups BUT does NOT guarantee to keep your records forever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to back up as you go alo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place pdf files in dedicated fol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 intervals, transmit to school IT departmen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long-term stor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Tech-only risk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640" y="3141720"/>
            <a:ext cx="712152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 preparation of stock solution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dilute ac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 Teacher as “Not applicable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es with the la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k documents in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2492280"/>
            <a:ext cx="80773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k diagrams, images, SOPs, procedural details, SDSs, . . 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click on link to jump to docu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7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ual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y law, risk assessments must be reviewed at regular interv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roup review by senior staff to produce “best” version of experiment is ide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-forma as starting point for next yea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group better than individual review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6551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 Health &amp; Safety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a duty . . . to eliminate/minimise risks to health and safety as far as is reasonably practic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taking into account and weighing up</a:t>
            </a:r>
            <a:br>
              <a:rPr sz="3000"/>
            </a:b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all relevant ma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ing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the </a:t>
            </a: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likeliho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hazard or the risk concerned occurring; a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the </a:t>
            </a: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degree of har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might result from the hazard or the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rt 2, Sections 17 and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8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c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59280" y="2133360"/>
            <a:ext cx="46749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bott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ey string 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ing scre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. .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read User Guide!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71640" y="2565360"/>
            <a:ext cx="80769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lanatory material on risk assess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utine safety proced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fe culturing of microorganis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mical register profor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. .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#10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g new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HS data on pure chemic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HS data on solu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 PINs – ALREADY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belling softw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mary RiskAss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497640" y="-951120"/>
            <a:ext cx="27432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9"/>
          <p:cNvSpPr/>
          <p:nvPr/>
        </p:nvSpPr>
        <p:spPr>
          <a:xfrm flipV="1">
            <a:off x="250920" y="5300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9620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risk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frequency of injuri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to stude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to school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 for paperwork, litigation and payo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la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s maintain variety of chemicals and equi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Australian Curricul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i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2057040"/>
            <a:ext cx="837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consideration of risks and control measu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of records for legal purpo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on between teachers and laboratory technici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urages spur-of-the-moment experi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ful for new/inexperienced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er-ba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56000" y="1980720"/>
            <a:ext cx="496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 consum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wieldy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-search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icult to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7292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vely rapi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pts sensitive to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s paper consum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to review and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monit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tor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nstrated to work in school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skAssess: 1250 schools AU+NZ+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,100,000 risk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fer laborator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s legal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effici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ppy lab techs and teach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all relevant ma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ies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haviour of the c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th special n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th allergies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NOT book “risk assessment”, tick sheet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likelih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degree of har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ation requi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risk assessment using a risk matr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Aust/ISO Standard on Risk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82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s safety training requirements o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ew Australian Curriculum for Scien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International Baccalaurea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extended investigations (student-initiated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mised for student us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students must agree to follow rules and instruction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on-line help screens and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PINs to prevent copying/allow use for 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to have all facilities of RiskAss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 of 30 simultaneous users no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laptops, iPads and other tablet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smart phones (iPhones, Android, et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sts an additional $200 + GST per campus per y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76360" y="380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57240" y="1219320"/>
            <a:ext cx="2057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3886200" y="36576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209680" y="47242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:   Establish the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:      Monitor and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:   Consult and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2819520" y="380880"/>
            <a:ext cx="327636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20840" y="1905120"/>
            <a:ext cx="861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-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t scho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t simila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ing, preferably with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lists of possible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itative sources e.g. (M)SDSs,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sess the severity of a ris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equences of the even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ce that it will occur (likelih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ISO 31000:2009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 436:2013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 guidelin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684360" y="558972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trices used in schools are 3 x 3 to 5 x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www.riskassess.com.au/learning_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y of options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4"/>
          <p:cNvSpPr/>
          <p:nvPr/>
        </p:nvSpPr>
        <p:spPr>
          <a:xfrm>
            <a:off x="1295280" y="60199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5"/>
          <p:cNvSpPr/>
          <p:nvPr/>
        </p:nvSpPr>
        <p:spPr>
          <a:xfrm flipH="1">
            <a:off x="129528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6"/>
          <p:cNvSpPr/>
          <p:nvPr/>
        </p:nvSpPr>
        <p:spPr>
          <a:xfrm>
            <a:off x="457200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87280" y="475920"/>
            <a:ext cx="338292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Straight Connector 3"/>
          <p:cNvSpPr/>
          <p:nvPr/>
        </p:nvSpPr>
        <p:spPr>
          <a:xfrm>
            <a:off x="4643280" y="1125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5"/>
          <p:cNvSpPr/>
          <p:nvPr/>
        </p:nvSpPr>
        <p:spPr>
          <a:xfrm>
            <a:off x="2771640" y="126828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7"/>
          <p:cNvCxnSpPr/>
          <p:nvPr/>
        </p:nvCxnSpPr>
        <p:spPr>
          <a:xfrm>
            <a:off x="2771280" y="1268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Straight Arrow Connector 10"/>
          <p:cNvCxnSpPr/>
          <p:nvPr/>
        </p:nvCxnSpPr>
        <p:spPr>
          <a:xfrm>
            <a:off x="6659280" y="1268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Rectangle 2"/>
          <p:cNvSpPr/>
          <p:nvPr/>
        </p:nvSpPr>
        <p:spPr>
          <a:xfrm>
            <a:off x="971640" y="1628640"/>
            <a:ext cx="33829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003640" y="1628640"/>
            <a:ext cx="33832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971640" y="2997360"/>
            <a:ext cx="33829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control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5292720" y="2997360"/>
            <a:ext cx="25923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17"/>
          <p:cNvCxnSpPr/>
          <p:nvPr/>
        </p:nvCxnSpPr>
        <p:spPr>
          <a:xfrm>
            <a:off x="2771280" y="2420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Straight Arrow Connector 19"/>
          <p:cNvCxnSpPr/>
          <p:nvPr/>
        </p:nvCxnSpPr>
        <p:spPr>
          <a:xfrm>
            <a:off x="6659280" y="2420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Straight Connector 21"/>
          <p:cNvSpPr/>
          <p:nvPr/>
        </p:nvSpPr>
        <p:spPr>
          <a:xfrm>
            <a:off x="277164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traight Connector 22"/>
          <p:cNvSpPr/>
          <p:nvPr/>
        </p:nvSpPr>
        <p:spPr>
          <a:xfrm>
            <a:off x="1332000" y="3933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24"/>
          <p:cNvSpPr/>
          <p:nvPr/>
        </p:nvSpPr>
        <p:spPr>
          <a:xfrm>
            <a:off x="1332000" y="836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28"/>
          <p:cNvCxnSpPr/>
          <p:nvPr/>
        </p:nvCxnSpPr>
        <p:spPr>
          <a:xfrm>
            <a:off x="1331640" y="836280"/>
            <a:ext cx="16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5" name="Rectangle 2"/>
          <p:cNvSpPr/>
          <p:nvPr/>
        </p:nvSpPr>
        <p:spPr>
          <a:xfrm>
            <a:off x="684360" y="4508640"/>
            <a:ext cx="8135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ent level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isk level without any control measures besides “routine procedur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al level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isk level with control measures i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iskAss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0200" y="16761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-based risk assessment too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stomised to the school sit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electronic templates (AU/ISO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database information on risk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(chemical, equipment, biological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equipment order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lab schedu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haring of experiment templates for custom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46:40Z</dcterms:created>
  <dc:creator>Phillip Crisp</dc:creator>
  <dc:description/>
  <dc:language>en-US</dc:language>
  <cp:lastModifiedBy>Phillip Crisp</cp:lastModifiedBy>
  <cp:lastPrinted>2010-11-30T03:29:40Z</cp:lastPrinted>
  <dcterms:modified xsi:type="dcterms:W3CDTF">2015-11-26T01:14:58Z</dcterms:modified>
  <cp:revision>178</cp:revision>
  <dc:subject/>
  <dc:title>Risk assessment and control of risks</dc:title>
</cp:coreProperties>
</file>