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726B-BD5A-4CFC-A1EF-FF9DB0A65D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21DC-67DE-42CE-9001-12B10A61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1BE1-0E09-43B0-B90C-67FC54655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81785-78D3-4783-BEEE-108A93FE6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0F9E-F0DC-465D-A3E5-6AC1F1AE5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3B7D-C879-4E13-ADAE-571D0BA93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5906-00F1-4B04-BBCB-E87FF1EEC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D182-D2CE-4D35-BB00-51CD1E75F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294C-D25B-43F6-9F60-5B1CB02D5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F19A-402F-46EF-8DF8-E7BA5D1E3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A4F1-1D19-43B2-B15F-59CAD9EBD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5058-43B6-454A-BA08-9BDBBF613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219E4-6EF4-4965-B70B-BD0B81E8F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ED59-1087-463B-A0FF-98FF2CFAF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3A20-77E1-4A6F-9B3F-EA1938BE7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7C48-4BAB-4890-925F-2368A1A7E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70710-E141-4825-BEC2-D3FB8DA9B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5AD7-6C33-418B-BAE6-62BFED94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940-85CA-4A32-8AEA-430844F7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2FB1-55C8-499D-BD1F-CE6ADF67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C366-2A41-46A7-B492-E8AE7B81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FBF7-0CE0-4263-8121-11EA7F4E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259-918C-47BE-9D12-4DA5167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D189-D071-4A55-9FCE-2A58F9B2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B45-93AC-48F6-8886-4A961B84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9645-E895-42B4-91A6-9BFFD315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975B-828B-4CA8-B25F-870798EB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26F4-C715-47D1-B43C-114E329A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E8A9-01ED-4819-B432-B8813D68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540F-D74C-448E-A130-FEA8D7E0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D49B-9DD4-4A97-B044-8F26D05F2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2491920"/>
            <a:ext cx="78120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RiskAss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 beginner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465300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illip Crisp and Eva Cris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6324480" y="533520"/>
          <a:ext cx="200520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533520"/>
                    <a:ext cx="20052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2" descr="burning_hair_medium.jpg"/>
          <p:cNvPicPr/>
          <p:nvPr/>
        </p:nvPicPr>
        <p:blipFill>
          <a:blip r:embed="rId3"/>
          <a:stretch/>
        </p:blipFill>
        <p:spPr>
          <a:xfrm>
            <a:off x="6300720" y="115920"/>
            <a:ext cx="21607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parate sections for teacher and laboratory technicia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assessment of inherent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low, go to e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medium or more, record control measur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 if high or extreme, third reviewer requi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oss-checking by teacher/labtech/review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heduling and ordering system to save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expensive ($200+GST per campus per year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17900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 from school/h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hing to install on computer, tablet or phon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instant updat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mited number of simultaneous users and risk assess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nimal data en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ments (M)S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ing input from science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backups of data &amp; backup serv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pport and adv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risk assess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2057040"/>
            <a:ext cx="807696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frequency of injuries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tudent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to school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 for paperwork, litigation and payou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la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lps maintain variety of chemicals and equip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iance with the Australian Curriculu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a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mali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2057040"/>
            <a:ext cx="8370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consideration of risks and control measu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of records for legal purpo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 between teachers and laboratory technicia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ourages spur-of-the-moment experi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ful for new/inexperienced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per-based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56000" y="1980720"/>
            <a:ext cx="496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me consum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wieldy for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n-search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fficult to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orage proble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onic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7292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ively rapi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mpts sensitive to contex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s paper consump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to review and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monitor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tor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monstrated to work in school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skAssess: 1500 schools AU+NZ+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1,400,000 risk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benef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133360" y="1904760"/>
            <a:ext cx="5638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fer laboratori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tter commun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s legal require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duced co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roved efficien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ppy lab techs and teachers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 RiskAss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822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ets safety training requirements of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new Australian Curriculum for Scienc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International Baccalaureat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extended investigations (student-initiated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timised for student us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tudents must agree to follow rules and instructions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on-line help screens and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PINs to prevent copying/allow use for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to have all facilities of RiskAss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ass of 30 simultaneous users no probl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be used 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laptops, iPads and other tablets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- smart phones (iPhones, Android, et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sts an additional $200 + GST per campus per y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6551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AW?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k Health &amp; Safety 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a duty . . . to eliminate/minimise risks to health and safety as far as is reasonably practicab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taking into account and weighing up</a:t>
            </a:r>
            <a:br>
              <a:rPr sz="3000"/>
            </a:b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ing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a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f the hazard or the risk concerned occurring; and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b) the </a:t>
            </a: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at might result from the hazard or the risk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art 2, Sections 17 and 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36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all relevant matter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acilities avai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haviour of the cla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special nee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udents with allergies, et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NOT book “risk assessment”, tick sheet, etc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likeliho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66ff"/>
                </a:solidFill>
                <a:latin typeface="Arial"/>
              </a:rPr>
              <a:t>degree of harm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sideration requ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er risk assessment using a risk matri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.g. Aust/ISO Standard on Risk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76360" y="380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shou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657240" y="1219320"/>
            <a:ext cx="2057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886200" y="36576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2209680" y="472428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:   Establish the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:      Monitor and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:   Consult and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2819520" y="380880"/>
            <a:ext cx="32763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20840" y="1905120"/>
            <a:ext cx="861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-acciden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cho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t similar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instorming, preferably with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lists of possible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itative sources e.g. (M)SDSs,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83920"/>
            <a:ext cx="77724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ssess the severity of a risk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need to consi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quences of the event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ance that it will occur (likeliho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 ISO 31000:2009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B 436:2013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 guidelin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84360" y="5589720"/>
            <a:ext cx="727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trices used in schools are 3 x 3 to 5 x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2400" spc="-1" strike="noStrike">
                <a:solidFill>
                  <a:srgbClr val="3366ff"/>
                </a:solidFill>
                <a:latin typeface="Arial"/>
              </a:rPr>
              <a:t>www.riskassess.com.au/learning_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sk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archy of options: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4"/>
          <p:cNvSpPr/>
          <p:nvPr/>
        </p:nvSpPr>
        <p:spPr>
          <a:xfrm>
            <a:off x="1295280" y="6019920"/>
            <a:ext cx="65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H="1">
            <a:off x="129528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>
            <a:off x="4572000" y="2209680"/>
            <a:ext cx="3276720" cy="381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987280" y="475920"/>
            <a:ext cx="338292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traight Connector 3"/>
          <p:cNvSpPr/>
          <p:nvPr/>
        </p:nvSpPr>
        <p:spPr>
          <a:xfrm>
            <a:off x="4643280" y="1125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5"/>
          <p:cNvSpPr/>
          <p:nvPr/>
        </p:nvSpPr>
        <p:spPr>
          <a:xfrm>
            <a:off x="2771640" y="1268280"/>
            <a:ext cx="38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Straight Arrow Connector 7"/>
          <p:cNvCxnSpPr/>
          <p:nvPr/>
        </p:nvCxnSpPr>
        <p:spPr>
          <a:xfrm>
            <a:off x="2771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Straight Arrow Connector 10"/>
          <p:cNvCxnSpPr/>
          <p:nvPr/>
        </p:nvCxnSpPr>
        <p:spPr>
          <a:xfrm>
            <a:off x="6659280" y="1268280"/>
            <a:ext cx="1080" cy="2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6" name="Rectangle 2"/>
          <p:cNvSpPr/>
          <p:nvPr/>
        </p:nvSpPr>
        <p:spPr>
          <a:xfrm>
            <a:off x="971640" y="1628640"/>
            <a:ext cx="338292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≥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003640" y="1628640"/>
            <a:ext cx="338328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risk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971640" y="2997360"/>
            <a:ext cx="338292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trol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292720" y="2997360"/>
            <a:ext cx="25923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Straight Arrow Connector 17"/>
          <p:cNvCxnSpPr/>
          <p:nvPr/>
        </p:nvCxnSpPr>
        <p:spPr>
          <a:xfrm>
            <a:off x="2771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Straight Arrow Connector 19"/>
          <p:cNvCxnSpPr/>
          <p:nvPr/>
        </p:nvCxnSpPr>
        <p:spPr>
          <a:xfrm>
            <a:off x="6659280" y="242064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" name="Straight Connector 21"/>
          <p:cNvSpPr/>
          <p:nvPr/>
        </p:nvSpPr>
        <p:spPr>
          <a:xfrm>
            <a:off x="2771640" y="3789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traight Connector 22"/>
          <p:cNvSpPr/>
          <p:nvPr/>
        </p:nvSpPr>
        <p:spPr>
          <a:xfrm>
            <a:off x="1332000" y="39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24"/>
          <p:cNvSpPr/>
          <p:nvPr/>
        </p:nvSpPr>
        <p:spPr>
          <a:xfrm>
            <a:off x="1332000" y="83664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8"/>
          <p:cNvCxnSpPr/>
          <p:nvPr/>
        </p:nvCxnSpPr>
        <p:spPr>
          <a:xfrm>
            <a:off x="1331640" y="836280"/>
            <a:ext cx="16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6" name="Rectangle 2"/>
          <p:cNvSpPr/>
          <p:nvPr/>
        </p:nvSpPr>
        <p:spPr>
          <a:xfrm>
            <a:off x="684360" y="4508640"/>
            <a:ext cx="81356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erent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out any control measures besides “routine procedure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dual level of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risk level with control measures in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iskAss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00200" y="167616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b-based risk assessment too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stomised to the school sit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lectronic templates (AU/ISO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database information on risks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(chemical, equipment, biological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equipment order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- lab schedu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sy sharing of experiment templates for customis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2:46:40Z</dcterms:created>
  <dc:creator>Phillip Crisp</dc:creator>
  <dc:description/>
  <dc:language>en-US</dc:language>
  <cp:lastModifiedBy>Phillip Crisp</cp:lastModifiedBy>
  <cp:lastPrinted>2010-11-30T03:29:40Z</cp:lastPrinted>
  <dcterms:modified xsi:type="dcterms:W3CDTF">2016-11-17T05:14:12Z</dcterms:modified>
  <cp:revision>181</cp:revision>
  <dc:subject/>
  <dc:title>Risk assessment and control of risks</dc:title>
</cp:coreProperties>
</file>