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F7D-C3F8-41DE-89D3-F6FB6AD7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EFC-503D-4EF3-936A-8B85AB99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F9CD-34AF-4CF6-87B5-6561FAB61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6B3-5985-47E5-B2A8-BF63DE20C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C0BF-EB0B-48F9-97A8-F373FBE0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9D07-7105-4625-B387-E5FBE9BD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93BA-55F8-43FE-8920-004C652C0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E320-3396-4CB8-8968-DE923124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76A9-551B-4E1C-B9E9-EA7043FA4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7E6-93B3-43A0-8DA7-69AC5BAD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3CFF-35D0-4ECF-823F-03D7E80D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9DD-1836-444B-A13A-2CE1A6E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F1C2-6158-46DD-88C8-2FCE3EA24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elling and GHS for experienced RiskAssess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5157720"/>
            <a:ext cx="64008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burning_hair_medium.jpg"/>
          <p:cNvPicPr/>
          <p:nvPr/>
        </p:nvPicPr>
        <p:blipFill>
          <a:blip r:embed="rId1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explos"/>
          <p:cNvPicPr/>
          <p:nvPr/>
        </p:nvPicPr>
        <p:blipFill>
          <a:blip r:embed="rId1"/>
          <a:stretch/>
        </p:blipFill>
        <p:spPr>
          <a:xfrm>
            <a:off x="533520" y="0"/>
            <a:ext cx="2209680" cy="2208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flamme"/>
          <p:cNvPicPr/>
          <p:nvPr/>
        </p:nvPicPr>
        <p:blipFill>
          <a:blip r:embed="rId2"/>
          <a:stretch/>
        </p:blipFill>
        <p:spPr>
          <a:xfrm>
            <a:off x="3276720" y="0"/>
            <a:ext cx="2208240" cy="2209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rondflam"/>
          <p:cNvPicPr/>
          <p:nvPr/>
        </p:nvPicPr>
        <p:blipFill>
          <a:blip r:embed="rId3"/>
          <a:stretch/>
        </p:blipFill>
        <p:spPr>
          <a:xfrm>
            <a:off x="6019920" y="0"/>
            <a:ext cx="2162160" cy="2165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bottle"/>
          <p:cNvPicPr/>
          <p:nvPr/>
        </p:nvPicPr>
        <p:blipFill>
          <a:blip r:embed="rId4"/>
          <a:stretch/>
        </p:blipFill>
        <p:spPr>
          <a:xfrm>
            <a:off x="457200" y="2241720"/>
            <a:ext cx="2362320" cy="236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cid_red"/>
          <p:cNvPicPr/>
          <p:nvPr/>
        </p:nvPicPr>
        <p:blipFill>
          <a:blip r:embed="rId5"/>
          <a:stretch/>
        </p:blipFill>
        <p:spPr>
          <a:xfrm>
            <a:off x="3200400" y="2286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skull"/>
          <p:cNvPicPr/>
          <p:nvPr/>
        </p:nvPicPr>
        <p:blipFill>
          <a:blip r:embed="rId6"/>
          <a:stretch/>
        </p:blipFill>
        <p:spPr>
          <a:xfrm>
            <a:off x="5943600" y="2286000"/>
            <a:ext cx="2359080" cy="2362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exclam"/>
          <p:cNvPicPr/>
          <p:nvPr/>
        </p:nvPicPr>
        <p:blipFill>
          <a:blip r:embed="rId7"/>
          <a:stretch/>
        </p:blipFill>
        <p:spPr>
          <a:xfrm>
            <a:off x="533520" y="4800600"/>
            <a:ext cx="2057400" cy="2054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silhouete"/>
          <p:cNvPicPr/>
          <p:nvPr/>
        </p:nvPicPr>
        <p:blipFill>
          <a:blip r:embed="rId8"/>
          <a:stretch/>
        </p:blipFill>
        <p:spPr>
          <a:xfrm>
            <a:off x="3352680" y="47242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Aquatic-pollut-red"/>
          <p:cNvPicPr/>
          <p:nvPr/>
        </p:nvPicPr>
        <p:blipFill>
          <a:blip r:embed="rId9"/>
          <a:stretch/>
        </p:blipFill>
        <p:spPr>
          <a:xfrm>
            <a:off x="6095880" y="4726080"/>
            <a:ext cx="213372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219320" y="914400"/>
            <a:ext cx="7094520" cy="32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468360" y="404640"/>
            <a:ext cx="8136000" cy="60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for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anted or transferred hazardous chemica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, at a minimum, be written in English and include the followi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duct identifier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azard pictogram or hazard statement consistent with the correct classification of the chemic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idelines for minimum text and pictogram siz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olume                     Text                     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 500 mL                  2.5 mm                       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0 mL to 5 L              3 mm                        20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Safe Work Australia “Labelling of Workplace Hazardous Chemicals Code of Practice” March 2015, adopted in each juridict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follows the Code of Practice for labell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773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Substances Informat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ww.hsis.safeworkaustralia.gov.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S information/Hazardous chemicals/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“GHS Hazardous Chemical Information List” which is “a work in progress” (last update Dec 20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recen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99640" y="1413000"/>
            <a:ext cx="80773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hemicals Asso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echa.europa.eu/information-on-chemicals/cl-inventory-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ification and Labelling (CL)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fications by chemical companies in Europe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lassifications according to GHS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monised class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test information on classification and lab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umsy to use, due to need to translate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4376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data available only for common industrial chemicals (e.g. NaO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a solution is regarded as mixture, with water as an inert dilu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S rules for mixtures ap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 www.riskassess.com.au/docsGHSdataSolutions.pdf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summary of the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RiskAssess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Pure chemical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HA data “Harmonised classification”, if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most common classification (more conservative, if tw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Solutions (&gt;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CHA data “Specific concentration limits”, if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 not, application of GHS rules for mixtures to ECHA data for pure chem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data updated as ECHA upda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iskAssess data may not agree w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ata from other sources,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ld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New developments in RiskAss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6920" y="1125360"/>
            <a:ext cx="8066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Januar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data added to chemical database for &gt;1000 pure substances and for their most common 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May 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HS labelling system ad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imple and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Continually updating data, e.g. bor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dding extra features in response to user requ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veloping “custom labelling”, “label anything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erything also added to Student RiskAss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51520" cy="233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1460520" cy="888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6300720" y="1700280"/>
            <a:ext cx="1371600" cy="749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5219640" y="3068640"/>
            <a:ext cx="246384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9140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ly agreed system (UN, esp. Europe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hysical hazards, e.g. flammabil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ealth hazards, e.g. carcinogenicit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nvironmental hazards, e.g. 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bel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9 new hazard pictogra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ignal wor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hazard stateme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recautionary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fety Data Sheets (SD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pdated &amp; more extens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Substanc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MSDSs by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 Jan 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cept VIC and WA, since no Work Health Safety Act y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urple Book</a:t>
            </a:r>
            <a:br>
              <a:rPr sz="2000"/>
            </a:b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61pp, 3.2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official text, Australia using Rev. 3 (2009), but  Rev. 6 (2015) late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anion Gui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standing the Globally Harmonized System of Classification and Labelling of Chemicals (GHS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89pp, 0.9MB download as pd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asy-to-read summary and learning tool, from UNITAR websi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safeworkaustralia.gov.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S informat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ous chemical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download from linked UNECE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nece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ur Work/Transport/Dangerous Goo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official text and corrigenda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S (Rev. 6) 2015 [one document] or GHS (Rev. 3) 2009 [in piec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2057040"/>
            <a:ext cx="449568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classification of a chemical, all else follow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3915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os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es Under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mmable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Reactive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yrophoric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Heating Sub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tances which, in contact with water, emit flammabl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Liqu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izing So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c Perox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osive to Met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Corrosion/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ous Eye Damage/Eye Irr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iratory or Skin Sensit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m Cell Muta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cinogen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 Toxi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Single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Target Organ Toxicity – Repeated Exp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iration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52120" y="1523880"/>
            <a:ext cx="57913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Aquat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te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ronic aquatic tox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accumulation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apid degra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ous to the Ozon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cluded from Australian legislation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 LIQU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egory                            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      Flash point &lt;23°C and initial boiling point &lt;3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      Flash point &lt;23°C and initial boiling point &gt;35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      Flash point 23-60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         Flash point 60-93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ame as DG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 group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+ “Combustib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category numbers wo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el for original 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identifier (e.g. n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shipping name &amp; UN Number (if Dangerous Goo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, address and phone number of Australian importer or manufactur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and proportions, if a mix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word e.g. Danger or W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zard Pic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autionary Stat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other information, e.g. first aid &amp; emergenc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iry date of the chemical, if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08-09-18T23:01:23Z</cp:lastPrinted>
  <dcterms:modified xsi:type="dcterms:W3CDTF">2016-11-17T05:14:17Z</dcterms:modified>
  <cp:revision>142</cp:revision>
  <dc:subject/>
  <dc:title>Risk assessment and control of risks</dc:title>
</cp:coreProperties>
</file>