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6711-6779-4B1C-8314-270E01CA2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DF84-691E-4CFD-A415-AB164249A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5744-8B38-4A7C-8C72-1FB43A919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9E9F-3E12-4022-A3EC-13D605701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4A44-8C9D-4689-9FB4-0672D6780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2691-3971-4187-B661-345565966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0712-9A36-4B2C-917D-92C897D2E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5EC4-F4C6-4493-B9C2-1A60A83E3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A971-3F38-4F65-8AA1-4BFDDE0E0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5DDB-002F-43B5-81CA-FD5119D64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84DF-1ACA-470E-BD11-A893A8580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8F3D-CBB0-4685-92AF-16D2B3D1D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984A-7454-4595-A4E0-4E04F3F65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EEB2-000F-4827-AFCD-A73678AB7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34FF-620D-408F-9DA2-CE3DA90D0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8620-75C2-40EB-9D00-A3331C2BD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BBE1-FF61-4E73-8DC9-4572D098D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053A-B822-4265-940C-E0A838B9D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3D3E-7220-46FA-92BC-04C744AA4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9664-6E90-4ACB-9CC3-E420B5094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841C-332E-4856-82DF-C8EE24DEC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E57F-3470-4BA5-B93B-23F483F4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83A9-0A5A-42AF-896B-6F3236EB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D73C-FDD4-4C67-B41A-915085F3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85FD-BBEE-4DD2-811C-8CF8189AC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5E14-D0D2-4454-9C90-0E7375EA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C4F5-D016-41B3-A967-BE20F754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BD77-D8F1-4C9F-9A3C-BBE3B95B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913F-08E6-40CC-AF59-D73F5701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AD20-83BE-40F1-8204-96559D6E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FDBC-2B0F-450C-8FC0-7F8C0C0A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D7C9-5BAA-494D-8C61-4A794DD0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DF85-6EC3-4AAE-864F-147BFF1D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3B45-B854-410E-8267-18A245800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2060640"/>
            <a:ext cx="9036000" cy="25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isk assessme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f science experimen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 Primary Schoo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444640"/>
            <a:ext cx="6400800" cy="9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lip Crisp and Eva Cr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5"/>
          <p:cNvGraphicFramePr/>
          <p:nvPr/>
        </p:nvGraphicFramePr>
        <p:xfrm>
          <a:off x="6324480" y="533520"/>
          <a:ext cx="20052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533520"/>
                    <a:ext cx="2005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archy of options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protective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"/>
          <p:cNvSpPr/>
          <p:nvPr/>
        </p:nvSpPr>
        <p:spPr>
          <a:xfrm>
            <a:off x="1295280" y="601992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 flipH="1">
            <a:off x="1295280" y="2209680"/>
            <a:ext cx="327672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4572000" y="2209680"/>
            <a:ext cx="327672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87280" y="475920"/>
            <a:ext cx="338292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3"/>
          <p:cNvSpPr/>
          <p:nvPr/>
        </p:nvSpPr>
        <p:spPr>
          <a:xfrm>
            <a:off x="4643280" y="1125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5"/>
          <p:cNvSpPr/>
          <p:nvPr/>
        </p:nvSpPr>
        <p:spPr>
          <a:xfrm>
            <a:off x="2771640" y="126828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7"/>
          <p:cNvCxnSpPr/>
          <p:nvPr/>
        </p:nvCxnSpPr>
        <p:spPr>
          <a:xfrm>
            <a:off x="2771280" y="1268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" name="Straight Arrow Connector 10"/>
          <p:cNvCxnSpPr/>
          <p:nvPr/>
        </p:nvCxnSpPr>
        <p:spPr>
          <a:xfrm>
            <a:off x="6659280" y="1268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Rectangle 2"/>
          <p:cNvSpPr/>
          <p:nvPr/>
        </p:nvSpPr>
        <p:spPr>
          <a:xfrm>
            <a:off x="971640" y="1628640"/>
            <a:ext cx="338292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≥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isk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5003640" y="1628640"/>
            <a:ext cx="338328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971640" y="2997360"/>
            <a:ext cx="33829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control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5292720" y="2997360"/>
            <a:ext cx="259236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17"/>
          <p:cNvCxnSpPr/>
          <p:nvPr/>
        </p:nvCxnSpPr>
        <p:spPr>
          <a:xfrm>
            <a:off x="2771280" y="242064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3" name="Straight Arrow Connector 19"/>
          <p:cNvCxnSpPr/>
          <p:nvPr/>
        </p:nvCxnSpPr>
        <p:spPr>
          <a:xfrm>
            <a:off x="6659280" y="242064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Straight Connector 21"/>
          <p:cNvSpPr/>
          <p:nvPr/>
        </p:nvSpPr>
        <p:spPr>
          <a:xfrm>
            <a:off x="2771640" y="378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22"/>
          <p:cNvSpPr/>
          <p:nvPr/>
        </p:nvSpPr>
        <p:spPr>
          <a:xfrm>
            <a:off x="1332000" y="3933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24"/>
          <p:cNvSpPr/>
          <p:nvPr/>
        </p:nvSpPr>
        <p:spPr>
          <a:xfrm>
            <a:off x="1332000" y="836640"/>
            <a:ext cx="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Straight Arrow Connector 28"/>
          <p:cNvCxnSpPr/>
          <p:nvPr/>
        </p:nvCxnSpPr>
        <p:spPr>
          <a:xfrm>
            <a:off x="1331640" y="836280"/>
            <a:ext cx="16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Rectangle 2"/>
          <p:cNvSpPr/>
          <p:nvPr/>
        </p:nvSpPr>
        <p:spPr>
          <a:xfrm>
            <a:off x="684360" y="4508640"/>
            <a:ext cx="8135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erent level of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risk level without any control measures besides “routine procedur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ual level of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risk level with control measures in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risk 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807696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frequency of injuries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to student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to school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motes a more enquiring attitude to safe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costs for paperwork, litigation and payo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iance with the law (c.f. industr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lps maintain variety of chemicals and equi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iance with the Australian Curricul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lised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3040" y="2060640"/>
            <a:ext cx="807696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er consideration of risks and control measur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ardis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rage of records for legal purpo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unication between teachers, laboratory technicians and stud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ful for new/inexperienced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mits spur-of-the-moment experi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16360" y="11556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skAss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97640" y="-951120"/>
            <a:ext cx="27432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272880" y="252576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-108000" y="1916280"/>
            <a:ext cx="2793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Asses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059280" y="2502000"/>
            <a:ext cx="1919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2556000" y="1628640"/>
            <a:ext cx="324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RiskAsses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1"/>
          <p:cNvSpPr/>
          <p:nvPr/>
        </p:nvSpPr>
        <p:spPr>
          <a:xfrm flipH="1">
            <a:off x="1403280" y="765000"/>
            <a:ext cx="2881440" cy="12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2"/>
          <p:cNvSpPr/>
          <p:nvPr/>
        </p:nvSpPr>
        <p:spPr>
          <a:xfrm>
            <a:off x="4427640" y="765000"/>
            <a:ext cx="3240000" cy="1151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108000" y="3141720"/>
            <a:ext cx="25192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rted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m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&gt;1000 scho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3059280" y="3284640"/>
            <a:ext cx="2244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rted 2013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meet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ust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&gt;130 scho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6227640" y="2502000"/>
            <a:ext cx="2376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5867280" y="1628640"/>
            <a:ext cx="324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RiskAsses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4"/>
          <p:cNvSpPr/>
          <p:nvPr/>
        </p:nvSpPr>
        <p:spPr>
          <a:xfrm>
            <a:off x="6372360" y="3284640"/>
            <a:ext cx="224316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rting 2015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meet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ust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&gt;120 scho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2"/>
          <p:cNvSpPr/>
          <p:nvPr/>
        </p:nvSpPr>
        <p:spPr>
          <a:xfrm>
            <a:off x="4356000" y="765000"/>
            <a:ext cx="0" cy="1151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1403280" y="544500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ary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6156360" y="5445000"/>
            <a:ext cx="2840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traight Connector 4"/>
          <p:cNvSpPr/>
          <p:nvPr/>
        </p:nvSpPr>
        <p:spPr>
          <a:xfrm>
            <a:off x="250920" y="5445000"/>
            <a:ext cx="554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22"/>
          <p:cNvSpPr/>
          <p:nvPr/>
        </p:nvSpPr>
        <p:spPr>
          <a:xfrm>
            <a:off x="6084720" y="5445000"/>
            <a:ext cx="295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9"/>
          <p:cNvSpPr/>
          <p:nvPr/>
        </p:nvSpPr>
        <p:spPr>
          <a:xfrm flipV="1">
            <a:off x="250920" y="5300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27"/>
          <p:cNvSpPr/>
          <p:nvPr/>
        </p:nvSpPr>
        <p:spPr>
          <a:xfrm flipV="1">
            <a:off x="5796000" y="5300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 flipV="1">
            <a:off x="6084720" y="5300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29"/>
          <p:cNvSpPr/>
          <p:nvPr/>
        </p:nvSpPr>
        <p:spPr>
          <a:xfrm flipV="1">
            <a:off x="9036000" y="5300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RiskAss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in developme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71640" y="2276640"/>
            <a:ext cx="794376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more “primary” equipment and living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de “non-primary” database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tech as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ation for “prima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000" y="333360"/>
            <a:ext cx="91076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requirements in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n Curriculum for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8000" y="1628640"/>
            <a:ext cx="9036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ars 3-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ly use appropriate materials, tools or equipment . . . (C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ng safety rules for equipment and procedures (E) (Students) discuss ways to safely use equipment . . (A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ars 5-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quipment and materials safely, identifying potential risks (C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ng possible hazards involved in conducting investig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how these risks can be reduced (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tudents) describe potential safety risks when planning methods (A)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Content descrip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 Elabor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Achievemen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sections for teacher and laboratory technician (if there is 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assessment of inherent ris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ow, go to end of for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edium or more, record control measu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f high or extreme, third reviewer requi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checking by teacher/labtech(/review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ing and ordering system to sav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xpensive ($160 + GST per campus per ye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from school/ho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hing to install on computer (instant upda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limited number of simultaneous users and risk assessments (virtuall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imal data en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ments MSDS/S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ing input from school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e backups of data &amp; backup ser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 and ad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ronic devices all suppor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1920" y="1484280"/>
            <a:ext cx="60199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t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ads (and other tabl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 phones (iPhones, Android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risk assessmen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0840" y="1905120"/>
            <a:ext cx="861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cience experiments are required by the new Australian Curriculum in Primary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School teachers generally have limited knowledge of sci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ious injuries may occur as a result of lack of knowledge/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ASSESSMENTS ARE REQUIR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LA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58560" y="1557000"/>
            <a:ext cx="7561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fer classro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ter commun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ets logical/legal requirements of curricul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co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s newest digital techn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e skills training for stud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ppy staff and student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RiskAss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61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ool to assist people to carry out risk assessments following the AU/ISO Standard on Risk Management and the Work Health Safety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-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background information on risks of chemicals, equipment and 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storage of records, communication, learning resources, ordering, scheduling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est way to meet logical and legal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6551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W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 Health &amp; Safety 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. . a duty . . . to eliminate/minimise risks to health and safety as far as is reasonably practica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. . taking into account and weighing up</a:t>
            </a:r>
            <a:br>
              <a:rPr sz="3000"/>
            </a:b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all relevant matter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ing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 the </a:t>
            </a: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likelihoo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the hazard or the risk concerned occurring; and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 the </a:t>
            </a: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degree of har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t might result from the hazard or the risk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art 2, Sections 17 and 1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436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all relevant matter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ilities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haviour of the cla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s with special nee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s with allergies, e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NOT book “risk assessment”, tick sheet, e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likelih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degree of har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deration requi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er risk assessment using a risk matri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.g. Aust/ISO Standard on Risk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76360" y="380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ou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57240" y="1219320"/>
            <a:ext cx="2057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886200" y="36576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209680" y="4724280"/>
            <a:ext cx="6172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:   Establish the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:      Monitor and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:   Consult and commun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2819520" y="380880"/>
            <a:ext cx="327636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20840" y="1905120"/>
            <a:ext cx="861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of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iden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-acciden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scho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similar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ing, preferably with collea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s of possible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ssess the severity of a ris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eed to 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sequences of the event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nce that it will occur (likeliho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ISO 31000:2009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manageme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 436:2013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management guidelin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76360" y="304920"/>
            <a:ext cx="2819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sk mat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1908360" y="137160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31840" y="2667960"/>
            <a:ext cx="54612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905840" y="1752480"/>
            <a:ext cx="20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or      Sev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762120" y="2514600"/>
            <a:ext cx="1218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1828800" y="2286000"/>
            <a:ext cx="236232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2971800" y="2286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>
            <a:off x="4191120" y="2286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>
            <a:off x="1828800" y="3429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1828800" y="47242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2"/>
          <p:cNvSpPr/>
          <p:nvPr/>
        </p:nvSpPr>
        <p:spPr>
          <a:xfrm>
            <a:off x="3354840" y="2455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3202920" y="3657600"/>
            <a:ext cx="7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5896080" y="190800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en-US" sz="32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acceptabl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5943600" y="2666880"/>
            <a:ext cx="299556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doubt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DER THE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5938920" y="3809880"/>
            <a:ext cx="2798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unacceptabl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DO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7"/>
          <p:cNvSpPr/>
          <p:nvPr/>
        </p:nvSpPr>
        <p:spPr>
          <a:xfrm>
            <a:off x="5791320" y="1828800"/>
            <a:ext cx="3200400" cy="32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8"/>
          <p:cNvSpPr/>
          <p:nvPr/>
        </p:nvSpPr>
        <p:spPr>
          <a:xfrm>
            <a:off x="6860520" y="12952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9"/>
          <p:cNvSpPr/>
          <p:nvPr/>
        </p:nvSpPr>
        <p:spPr>
          <a:xfrm>
            <a:off x="2059200" y="38098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0"/>
          <p:cNvSpPr/>
          <p:nvPr/>
        </p:nvSpPr>
        <p:spPr>
          <a:xfrm>
            <a:off x="2211480" y="25146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219320" y="5516640"/>
            <a:ext cx="65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matrices used in schools are 3 x 3 to 5 x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02:46:40Z</dcterms:created>
  <dc:creator>Phillip Crisp</dc:creator>
  <dc:description/>
  <dc:language>en-US</dc:language>
  <cp:lastModifiedBy>Phillip Crisp</cp:lastModifiedBy>
  <cp:lastPrinted>2014-03-23T10:06:03Z</cp:lastPrinted>
  <dcterms:modified xsi:type="dcterms:W3CDTF">2015-02-10T00:05:27Z</dcterms:modified>
  <cp:revision>179</cp:revision>
  <dc:subject/>
  <dc:title>Risk assessment and control of risks</dc:title>
</cp:coreProperties>
</file>