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5F5-1986-4AEE-8871-BBFAB46F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C6E-B9BE-471B-A790-4601437D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EC8-1B10-4819-B01C-C651A752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AE3-BA01-442C-AB32-72F17192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117-FB51-4F07-A3C8-9072FE77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BE6-2E9E-4CB6-ABAB-F1B3D73C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FD7-FD04-458E-9823-5113CD4F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0BD-2649-44A9-B01A-F882CAAC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4BD-5297-467C-A764-8617D368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F49-053D-49FD-8D4F-B214EA6D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F8C-1AC5-45F5-8FA1-80B0D018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C8A-FF24-4B74-A145-9141A6AF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10AD-55BF-437E-AD5A-418D7C63F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asy way to meet the safety requirements of the new Australian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 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olve Australia Pty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6019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ads (and other tabl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phones (iPhones, Android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4800600"/>
            <a:ext cx="807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gital technologies* are emphasised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ience Inquiry Skills, Years 7-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systems that handle digital data including hardware and software for specific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6019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eng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newes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n lif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students and teach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Health &amp; Safety Act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 all relevant matters 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likelihood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degree of harm 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Management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ISO 31000 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, Identify/Analyse/Evaluate/Treat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risks at least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Assessment template + Risk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50292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CD, Procedure No: 07/4385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isk Management Framework, 1 Feb 201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38862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80880"/>
            <a:ext cx="327636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1219320"/>
            <a:ext cx="1828800" cy="198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19051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32767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“accidents” and “near-accidents”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“Risk manage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89:2012 “Risk management guideli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aluate the severity of a ris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use a decision matrix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a “risk matrix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ity of a risk is the output of a ta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 (c.f. indust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stud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school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with the law (c.f. indu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with the Australian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sures 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laboratory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practic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6520" y="21333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(almo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many prompts - mostly empty spac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few prompts - requires knowledge &amp; ski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.g. &gt;800 schools in AU,NZ&amp;C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electronic templates (AU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low, go to e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160 per school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 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(virtual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MSDS/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subscriptions for Aust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lab techs and teac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360" y="13716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1840" y="26679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840" y="17524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51460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2860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429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4724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2920" y="36576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96080" y="1908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52880" y="3809880"/>
            <a:ext cx="297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1828800"/>
            <a:ext cx="3200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11480" y="2514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2438280"/>
            <a:ext cx="1905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666880"/>
            <a:ext cx="1600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380880"/>
            <a:ext cx="190512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838080"/>
            <a:ext cx="2743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operat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er            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                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228600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3352680"/>
            <a:ext cx="2743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49568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556272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609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362320"/>
            <a:ext cx="15242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23623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60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990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990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3505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4648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5715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990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1371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057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629400" y="2437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629400" y="3504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629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6294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8148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3341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19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7621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20968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2767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4197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48640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380880"/>
            <a:ext cx="4952880" cy="5867640"/>
          </a:xfrm>
          <a:prstGeom prst="rect">
            <a:avLst/>
          </a:prstGeom>
          <a:noFill/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5486400"/>
            <a:ext cx="1447920" cy="53352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6172200"/>
            <a:ext cx="1447920" cy="533520"/>
          </a:xfrm>
          <a:prstGeom prst="rect">
            <a:avLst/>
          </a:prstGeom>
          <a:noFill/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44160" y="548640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44160" y="617220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25760" y="5105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requirements in the Australian Curriculum for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 4-1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 take increasingly active role in consideration of risk and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 9 &amp;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Assess risk” (Content description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identify potential hazards of chemicals and biological materials . . .” (Elabo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 11 &amp; 1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Conducting risk assessments (Inquiry ski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: first aid treatment at the scho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treatment by a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immediate hospit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v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likeli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known to commonly occur; not unexpected in the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ke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uncommon, rare, but sufficiently frequent to have been witnessed by self or a known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ike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very rare; have heard of it happening; may possibly have been witnessed by self or a known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ry unlik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17840" y="129528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5520" y="33537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480" y="175248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Moderate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2514600"/>
            <a:ext cx="1218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286000"/>
            <a:ext cx="358128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3429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4724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9200" y="2631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380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4480" y="3657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3800" y="3675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22240" y="497052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96080" y="1908000"/>
            <a:ext cx="2805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w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OTHER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733920"/>
            <a:ext cx="34290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very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ther DON’T DO IT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WITH GREAT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52880" y="5043600"/>
            <a:ext cx="297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1828800"/>
            <a:ext cx="3200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920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816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1 : incident with or without minor inju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signific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: first aid or minor lost time inju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n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3: serious injury and/or illne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de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4: multiple serious injur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j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5: death of adult or chil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rit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likeli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1: less than once in 15 years (possibility &lt; 5%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: at least once in 5-15 years (possibility 5-25%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3: at least once in 2-5 years (possibility 25-50%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4: at least once in a year (possibility 50-75%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ik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5: multiple times in a year (possibility &gt;75%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most cert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1905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51560" y="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6240" y="28965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4572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gnificant   Minor    Moderate     Major      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1219320"/>
            <a:ext cx="1218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990720"/>
            <a:ext cx="609588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133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34290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0" y="57913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13716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5909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96440" y="137160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012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0080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45720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5562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0" y="4876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0" y="3809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92200" y="57913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92200" y="4876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38098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840" y="1371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5909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10800" y="25909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38098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48769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58880" y="57913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57913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96800" y="57913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48769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01160" y="137160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1371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77840" y="25909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7840" y="38098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96440" y="25909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96800" y="38098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6800" y="48769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n Curriculum for Science Implementation da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th Australia DE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3: Year 8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4: Year 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5: Year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ion: R-7 in 2015 &amp; 8-12 in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States and Territo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-2014 depending on schoo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8120" y="2590560"/>
            <a:ext cx="2743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419720"/>
            <a:ext cx="739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 to meet the safety requi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Australian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1800" y="10663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3080" y="0"/>
            <a:ext cx="2743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35812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97180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Ass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358128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29718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iskAss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590920" y="1752480"/>
            <a:ext cx="18288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1752480"/>
            <a:ext cx="1447920" cy="9144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8769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rted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4952880"/>
            <a:ext cx="3276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in 2013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mee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st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ed to the schoo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sed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lectronic templates (AU/ISO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atabase information on ris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quipment orde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lab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for teachers, especially RA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ections for student, teacher and laboratory techn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w, go to e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edium or more, record control meas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igh or extreme, third reviewer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($160 + GST per school per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 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(virtual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MSDS/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3-04-09T02:36:58Z</cp:lastPrinted>
  <dcterms:modified xsi:type="dcterms:W3CDTF">2013-04-09T10:52:22Z</dcterms:modified>
  <cp:revision>146</cp:revision>
  <dc:subject/>
  <dc:title>Risk assessment and control of risks</dc:title>
</cp:coreProperties>
</file>