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85E5-14F9-4B97-9FBD-E2451B45C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0C87-4347-493D-9E68-678FDC71D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B1E2-C90F-4D8E-A71C-9B51E7989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038E-89F7-436B-91E4-5BD0097D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9A0F-B79B-4DFC-8FA9-91E42F5B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570C-687B-4942-AEA1-F32FCEE98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392F-FA1B-4BC3-B70F-210C9001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65B4-E8EA-4B62-9369-2B9709EA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4905-2276-435E-B2F3-370520449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7977-578B-4845-8C4A-6BD1EC84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16D1-2107-41A0-BA7D-0F322361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F1AE-D0A3-42F7-83C8-C80CA217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925B-E768-4F42-9CBD-6C1AC2B1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88D1-9794-46D4-AE2C-07257B0A1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6BF9-24A5-4453-82A8-4809E7B66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50D0-AE57-4A37-B7FE-2C5CB6569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1C89-349B-4600-94DD-352AB5385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9748-8F74-4637-981A-99A13EF8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30B-7903-49E0-81DC-DD354743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B68-7002-49A8-92EE-A4C6182A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45D-4FC7-486A-8A2B-7B4D44A5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B64-97F1-4DA6-94EB-3ACB6228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582-31AE-40BC-B52A-3A252294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FD0-A7D3-4EE1-855C-21AB7A40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A19-B955-4D4C-8BB2-5B4D1571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19A-FF71-498F-8F51-4040A792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13E-8CB8-4B57-AAA3-208B4934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FA7-3BD5-437C-BE0F-EA6FDD86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9D5-CE1A-4E10-A93F-E3D9C39F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E29-4C09-46C7-8EC5-69AEBBCA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C1E8-CA35-43AF-98BA-9E540354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7812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RiskAsse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2" descr="burning_hair_medium.jpg"/>
          <p:cNvPicPr/>
          <p:nvPr/>
        </p:nvPicPr>
        <p:blipFill>
          <a:blip r:embed="rId3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, ordering, labelling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250+GST per campus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7900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SD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Australian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3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urage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56000" y="1980720"/>
            <a:ext cx="496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92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 and 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Assess: 1600 schools AU+NZ+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,000,000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lab techs and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s safety training requirement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w Australian Curriculum for Scie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nternational Baccalaure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extended investigations (student-initiate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sed for student 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tudents must agree to follow rules and instruc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on-line help screens and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PINs to prevent copying/allow use for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to have all facilities of RiskAss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30 simultaneous users no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aptops, iPads and other tablet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mart phones (iPhones, Android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s an additional $250 + GST per campus per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&amp; Safet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ative sources e.g. SDSs,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4360" y="562284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riskassess.com.au/info/learning_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iskAss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1484280"/>
            <a:ext cx="707544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quipment ordering/lab schedul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labelling (GH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learning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0-11-30T03:29:40Z</cp:lastPrinted>
  <dcterms:modified xsi:type="dcterms:W3CDTF">2017-09-01T00:58:45Z</dcterms:modified>
  <cp:revision>195</cp:revision>
  <dc:subject/>
  <dc:title>Risk assessment and control of risks</dc:title>
</cp:coreProperties>
</file>