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9F0-A90B-40A5-84DF-78C92D07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CE3-88EB-48FC-8603-401DBDCE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957-95E6-4951-8BE9-3729C4C1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FAD-DF63-4E74-8771-BE367141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629-5434-4D3B-B43B-9B908EC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02F-89EC-44CB-BC95-F1D7E31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E13-D7EF-4FF6-926F-4884AAE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5B1-96D0-4184-8373-4B384E6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D95-2768-4F6D-B101-49B1C1E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D15-6FBF-4FDA-B268-685AB70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9EC-D6C0-4D69-9DBF-AF6EBE4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E47-0AAD-4428-A35D-75EE639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8C5C-C2D4-46D8-B0DB-D6528E81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cis.safeworkaustralia.gov.au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ha.europa.eu/information-on-chemicals/cl-inventory-databas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HS labelling of chem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37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available only for common industrial chemicals (e.g.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 solution is regarded as mixture, with water as an inert dil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rules for mixtures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riskassess.com.au/docs/GHSdataSolutions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ummary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Ass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re chemical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Harmonised classification”,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most common classification (more conservative, if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A data “Specific concentration limits”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application of GHS rules for mixtures to ECHA data for pure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updated following ECHA up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Assess data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other sourc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ure substances and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on indicators/dyes in aqueous alcohol and for common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uses information from RiskAsssess database to generat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alculates solution labels based on the concentration you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colour spots and “SDS avai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659120" cy="33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076720" y="1736640"/>
            <a:ext cx="194328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7308720" y="1736640"/>
            <a:ext cx="137160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5508720" y="3465360"/>
            <a:ext cx="3265560" cy="1297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1116000" y="5229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50,000 label sheets dow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600 secondary schools since 25/9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mercial products, using data from S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ixtures of chemicals not in the RiskAssess database (calculate yoursel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make any GHS label, by selecting signal word, pictograms and hazard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checking of signal word and pict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colour spots and “SDS avai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creen Shot 2017-08-23 at 4.54.44 PM.png"/>
          <p:cNvPicPr/>
          <p:nvPr/>
        </p:nvPicPr>
        <p:blipFill>
          <a:blip r:embed="rId1"/>
          <a:stretch/>
        </p:blipFill>
        <p:spPr>
          <a:xfrm>
            <a:off x="5580000" y="3559320"/>
            <a:ext cx="294336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Screen Shot 2017-08-23 at 4.57.15 PM.png"/>
          <p:cNvPicPr/>
          <p:nvPr/>
        </p:nvPicPr>
        <p:blipFill>
          <a:blip r:embed="rId2"/>
          <a:stretch/>
        </p:blipFill>
        <p:spPr>
          <a:xfrm>
            <a:off x="5219640" y="1687680"/>
            <a:ext cx="1800360" cy="108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creen Shot 2017-08-23 at 4.59.46 PM.png"/>
          <p:cNvPicPr/>
          <p:nvPr/>
        </p:nvPicPr>
        <p:blipFill>
          <a:blip r:embed="rId3"/>
          <a:stretch/>
        </p:blipFill>
        <p:spPr>
          <a:xfrm>
            <a:off x="7308720" y="1687680"/>
            <a:ext cx="1366920" cy="74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Screen Shot 2017-08-24 at 11.17.50 AM.png"/>
          <p:cNvPicPr/>
          <p:nvPr/>
        </p:nvPicPr>
        <p:blipFill>
          <a:blip r:embed="rId4"/>
          <a:stretch/>
        </p:blipFill>
        <p:spPr>
          <a:xfrm>
            <a:off x="395280" y="1341360"/>
            <a:ext cx="46814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labelling system for chemicals, solutions and mi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overhauled and updated User and Training C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afety in Schools" book, available as an 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s to Learning Resources for routine procedures, dissection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heduling of experiments with signed risk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sable year group list for eac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formation, stocktaking and usage 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$250 + GST per campus per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agreed system (UN, esp. Eur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hysical hazards, e.g. flamm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alth hazards, e.g. carcinogen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hazards, e.g. 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 new hazard pictogr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ignal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zard stat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cautionary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pdated &amp; more extens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le Book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61pp, 3.2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fficial text, Australia using Rev. 3 (2009), but  Rev. 7 (2017) lat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ion Gu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9pp, 0.9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asy-to-read summary and learning tool, from UNITAR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ne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r Work/Transport/Dangerous Go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official text and corrigen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(Rev. 7) 2017 [one document] or GHS (Rev. 3) 2009 [in piec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obtain the latest version directly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bfc5"/>
                </a:solidFill>
                <a:latin typeface="Arial"/>
              </a:rPr>
              <a:t>www.unece.org/trans/danger/publi/ghs/ghs_rev07/07files_e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for original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identifier (e.g.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shipping name &amp; UN Number (if Dangerou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, address and phone number of Australian importer or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and proportions, if a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word e.g. Danger or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utionary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nformation, e.g. first aid &amp; emergenc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iry date of the chemical, if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explos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lamme"/>
          <p:cNvPicPr/>
          <p:nvPr/>
        </p:nvPicPr>
        <p:blipFill>
          <a:blip r:embed="rId2"/>
          <a:stretch/>
        </p:blipFill>
        <p:spPr>
          <a:xfrm>
            <a:off x="3276720" y="0"/>
            <a:ext cx="220824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rondflam"/>
          <p:cNvPicPr/>
          <p:nvPr/>
        </p:nvPicPr>
        <p:blipFill>
          <a:blip r:embed="rId3"/>
          <a:stretch/>
        </p:blipFill>
        <p:spPr>
          <a:xfrm>
            <a:off x="6019920" y="0"/>
            <a:ext cx="2162160" cy="216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bottle"/>
          <p:cNvPicPr/>
          <p:nvPr/>
        </p:nvPicPr>
        <p:blipFill>
          <a:blip r:embed="rId4"/>
          <a:stretch/>
        </p:blipFill>
        <p:spPr>
          <a:xfrm>
            <a:off x="457200" y="2241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acid_red"/>
          <p:cNvPicPr/>
          <p:nvPr/>
        </p:nvPicPr>
        <p:blipFill>
          <a:blip r:embed="rId5"/>
          <a:stretch/>
        </p:blipFill>
        <p:spPr>
          <a:xfrm>
            <a:off x="3200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skull"/>
          <p:cNvPicPr/>
          <p:nvPr/>
        </p:nvPicPr>
        <p:blipFill>
          <a:blip r:embed="rId6"/>
          <a:stretch/>
        </p:blipFill>
        <p:spPr>
          <a:xfrm>
            <a:off x="5943600" y="2286000"/>
            <a:ext cx="235908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exclam"/>
          <p:cNvPicPr/>
          <p:nvPr/>
        </p:nvPicPr>
        <p:blipFill>
          <a:blip r:embed="rId7"/>
          <a:stretch/>
        </p:blipFill>
        <p:spPr>
          <a:xfrm>
            <a:off x="533520" y="4800600"/>
            <a:ext cx="2057400" cy="2054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ilhouete"/>
          <p:cNvPicPr/>
          <p:nvPr/>
        </p:nvPicPr>
        <p:blipFill>
          <a:blip r:embed="rId8"/>
          <a:stretch/>
        </p:blipFill>
        <p:spPr>
          <a:xfrm>
            <a:off x="33526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Aquatic-pollut-red"/>
          <p:cNvPicPr/>
          <p:nvPr/>
        </p:nvPicPr>
        <p:blipFill>
          <a:blip r:embed="rId9"/>
          <a:stretch/>
        </p:blipFill>
        <p:spPr>
          <a:xfrm>
            <a:off x="6095880" y="4726080"/>
            <a:ext cx="2133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945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13600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fo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nted or transferred hazardous chem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, at a minimum, be written in English and include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identifie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zard pictogram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zard statement consistent with the correct classification of the chemi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minimum text and pictogram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ume                     Text                     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500 mL                  2.5 mm                       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mL to 5 L              3 mm                        2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afe Work Australia “Labelling of Workplace Hazardous Chemicals Code of Practice” March 2015, adopted in every jurisdiction except WA; VIC indir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follows the Code of Practice for label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Chemical Inform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cis.safeworkaustralia.gov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“Search Hazardous Chemicals”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name (sometimes use weird nam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Registry Number (more rel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cen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hemicals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ha.europa.eu/information-on-chemicals/cl-inventory-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Labelling (CL)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by chemical companies in Euro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lassifications according to GH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sed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tes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7-09-01T00:51:16Z</dcterms:modified>
  <cp:revision>175</cp:revision>
  <dc:subject/>
  <dc:title>Risk assessment and control of risks</dc:title>
</cp:coreProperties>
</file>