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096A-CE47-4C92-A3DE-CBBABA81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290-3877-4DBE-B260-D654E290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1C2-457C-4720-A1D7-B9428D375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43D-1A3E-466C-B598-A63445239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6849-33FC-4E30-A1B7-979BB247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D84-6FAF-4997-A81C-93CF8E7E0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6B2-DA39-4AD2-8F49-F0C1BF37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ED6C-29A0-4456-B4A5-6A04977D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398-4849-4316-A574-856F8247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C0F-7256-41EB-9873-AD122558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F13-ECE1-4E15-AEF2-D77C8B2B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0435-BF8B-4CA5-A37D-4173D946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E578-7D14-4D8A-BCFC-ED9B6C0C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4C6-D2F3-43B7-9C8C-9AC9E680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6A4-123A-4848-BE5E-D86180A5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309-32F4-4EC7-B380-593F6C68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E804-AEFE-4C54-9C9D-3362698C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BAB-6FB9-41C2-BD44-D20E2772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894-39AB-49BA-AE13-3140699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6C2-59DD-4BEF-B8E7-CE83203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34A-BCA3-4103-8A9E-B6530C52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36B-7A49-4583-B690-D2553A44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ABD-EBBB-463E-869D-88975153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5E6-B10B-4BEE-9D22-0701E8B2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278-5AF7-4973-A7F8-3FF1A854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3A1-05E6-4531-B925-B53F24D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AD7-9507-45C8-8426-12B29383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937-C2E7-4C7D-9C5C-3C948C3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A0B-4627-4AB1-9D5B-84893BC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B2A-B4B3-435A-B6B4-A12EBED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F3E-504B-4FBE-9760-42B60924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8929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obligation for teach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perform science risk assessmen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RiskAssess can make your job easi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urning_hair_medium.jpg"/>
          <p:cNvPicPr/>
          <p:nvPr/>
        </p:nvPicPr>
        <p:blipFill>
          <a:blip r:embed="rId1"/>
          <a:stretch/>
        </p:blipFill>
        <p:spPr>
          <a:xfrm>
            <a:off x="615636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35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2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20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740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Curriculum for Scien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students agree to follow rules and instruc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facilities of RiskAss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P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30+ users no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ptops, iPads and smart phon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$200 + GST per campus per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729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teachers, lab techs and stude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and Safety Act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alia now as litigious as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bility of teacher &gt; pa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tect students and yoursel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ply with all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and be able to prove it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cumented risk assessment, to the limit of your knowledge and skill, is key to your complying with the WHS Act 201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(M)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4360" y="5589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info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6-03-31T00:17:30Z</cp:lastPrinted>
  <dcterms:modified xsi:type="dcterms:W3CDTF">2016-03-31T02:04:22Z</dcterms:modified>
  <cp:revision>195</cp:revision>
  <dc:subject/>
  <dc:title>Risk assessment and control of risks</dc:title>
</cp:coreProperties>
</file>