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6203-2CB8-492E-9AF9-362561AD3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60F8-4DB4-4F01-9130-FB919919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04F-3045-4D4C-B01A-F39B1042F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90F-6F82-436B-A4AE-C47792A8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461-4A29-46C7-BC15-9086DD7C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F525-C05E-435F-ABF7-56588F82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E47-F850-4EFD-9C1C-9036EDA2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16B-BB95-4AA7-9785-1C86198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113-0EE0-43D8-ACDB-D81B1E9C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846-BBFB-4167-893B-8C9EF023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CC6-0968-46FF-85F1-9DBB088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F80-DB46-43D9-B261-31BC080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67B-B63E-48C7-917D-CB5A7681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12C-0759-436B-B68E-F0771D7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FDC-4E6E-475A-988B-06B06751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0ED-4783-4ADD-81B3-2D3F68D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85F-B940-4BDC-B11F-9B97CA4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A2A-D67E-4B2B-9463-8E6B35E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1C4-3D42-4483-BA71-09197963E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: new features and GHS labelling for WHMIS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Corrosion/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Eye Damage/Eye 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or Skin 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 Cell Muta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ino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 Toxi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Single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Repeated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ation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791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Aquat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accumulation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apid degra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684360" y="333360"/>
            <a:ext cx="81356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“when a hazardous product is dec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transferred or poured) into another contai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 is not “going to be used immediate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ticipated that a workplace label will require the following inform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name (matching the SDS product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handling precautions, may include pictograms or other supplier labe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erence to the SDS (if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place label requirements fall under your Provincial or Territorial jurisdiction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adian Centre for Occupational Health and Safety “WHMIS 2015 - Labels” https://ccohs.ca/oshanswers/chemicals/whmis_ghs/label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 www.riskassess.com.au/docsGHSdataSolutions.pdf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Asses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updated as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 of 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($200+GST per campu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skAss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73000"/>
            <a:ext cx="700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electronic templates (CA/IS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quipment ordering/lab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HS labelling (WHMIS 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between teachers and science 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ew developments in 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Januar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data added to chemical database for &gt;1000 pure substances and for their most common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a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labelling system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mple and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ally updating data, e.g. b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tra features added in response to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.g. Custom labels, “SDS available” on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erything also added to Student Risk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515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1460520" cy="88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1371600" cy="749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2463840" cy="977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6443640" y="3860640"/>
            <a:ext cx="72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DS availab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364000" y="2421000"/>
            <a:ext cx="720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DS availab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776320" y="3860640"/>
            <a:ext cx="659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DS availab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741000" y="2324160"/>
            <a:ext cx="57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DS availab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202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the law: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HS Code 200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MIS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the IB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6840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S Co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cupational Health and Safety Co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ployer must assess a worksite and identify existing or potential hazards before work begins 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prepare a report on the results of a hazard assessment and the methods used to control or eliminate the hazards identified . . 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ensure that the date . . is recorded . . 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ensure that the hazard assessment is repeated . . at reasonably practicable intervals . . 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art 2, 7(1)-(4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343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MI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place Hazardous Materials Information System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 according to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H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iginal contai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orkplace chemic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H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vailable wherever a chemical is used or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nge from WHMIS 19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ll compli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0 Novembe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7800" y="333360"/>
            <a:ext cx="5548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640" y="836640"/>
            <a:ext cx="7562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ly Harmonised System of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Labelling of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fficial text, Rev. 6 (2015) lat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une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HS (Rev. 6)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3200" y="2057040"/>
            <a:ext cx="44956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classification of a chemical, all else follow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Und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active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Heating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ces which, in contact with water, emit 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Per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ve to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7-05-26T13:09:07Z</dcterms:modified>
  <cp:revision>172</cp:revision>
  <dc:subject/>
  <dc:title>Risk assessment and control of risks</dc:title>
</cp:coreProperties>
</file>